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7C15B-7D85-426E-93C0-FDF2CBD03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97E28-1A06-4DCD-B50F-F66A00B76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1B732-7D63-4ED1-8066-50F6BEDEF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BCD10-E09B-4451-9C53-27287860A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DE17B-3C29-405B-A5D1-42604A8F5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71EC8-5CF4-4D09-983F-FF4E6C1F0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0185B-9BE2-405E-A2C0-301B6327D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4264B-10E0-4D91-9F30-F7543F3F3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E2EC4-4896-4C63-BD1A-64A1A5C0F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525BB-A937-417D-B85C-BE514192C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41500-B9F4-4730-B823-483FC68B1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163B4-7404-4CB8-9E7C-4EE35CBC9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8543-F410-4E0D-A7B5-86B8D67579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a:t>
            </a:r>
            <a:br>
              <a:rPr sz="1000"/>
            </a:br>
            <a:r>
              <a:rPr b="0" lang="en-US" sz="1000" spc="-1" strike="noStrike">
                <a:solidFill>
                  <a:srgbClr val="000000"/>
                </a:solidFill>
                <a:latin typeface="Arial"/>
              </a:rPr>
              <a:t>Proba de evaluare a competenţelor digitale – document de lucru</a:t>
            </a:r>
            <a:br>
              <a:rPr sz="1000"/>
            </a:br>
            <a:endParaRPr b="0" lang="en-US" sz="1000" spc="-1" strike="noStrike">
              <a:solidFill>
                <a:srgbClr val="000000"/>
              </a:solidFill>
              <a:latin typeface="Arial"/>
            </a:endParaRPr>
          </a:p>
        </p:txBody>
      </p:sp>
      <p:sp>
        <p:nvSpPr>
          <p:cNvPr id="45" name=""/>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6" name="" descr=""/>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a:t>
            </a:r>
            <a:br>
              <a:rPr sz="1000"/>
            </a:br>
            <a:r>
              <a:rPr b="0" lang="en-US" sz="1000" spc="-1" strike="noStrike">
                <a:solidFill>
                  <a:srgbClr val="000000"/>
                </a:solidFill>
                <a:latin typeface="Arial"/>
              </a:rPr>
              <a:t>Proba de evaluare a competenţelor digitale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a:p>
            <a:pPr lvl="3" marL="17524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7524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IC6_col</cp:lastModifiedBy>
  <dcterms:modified xsi:type="dcterms:W3CDTF">2010-03-23T14:17:55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