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B54-CD85-4AAE-8593-7285162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A65-C70C-425A-8136-5CFDFBCD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0C5-C657-448B-A36D-A69DBCDC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AAE-1C01-4651-90E6-0C4DF794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05A6-95B5-4E0D-BF6B-50B32B26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0F0-3368-43DE-A7D2-2AEF4EE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EB00-6E89-4524-B939-8CB7EB54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8DE-F33E-4154-BCFF-360939CC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D626-91DC-42CC-A49D-0F539B4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06E5-9060-434A-95EE-5ACA68D8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7786-58EF-4CAB-9108-BCF15DF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DBF-6A8F-4E4A-9EA5-7712507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B4D-B885-4041-AD39-77210AB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1E83-C1F0-49CB-A1CB-E6DD759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F095-FEAD-43B4-B774-FF4F1DD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7370-B720-412C-8FBE-D203BB88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8551-E9EA-4F53-898E-523677A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A9C-4D27-4B3C-9A4A-CE3562E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4D4-60C1-4400-BDC3-D035071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6C0-0B2B-4A0A-9B4D-4BA5AEF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040-1DF7-4729-A29C-6E846B4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CA3-210D-4908-87D4-4337022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34ED-1332-449A-B9DC-87EB1AE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050-F714-4DF8-908D-BBAA8BC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E21-4686-4D83-92FF-EA9B57EAB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E7B-2E24-4754-90FF-FEAF1626E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348000" y="61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ăluţ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1773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isicuţ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2349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ever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5640" y="29178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Buf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3500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ără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Pisicuţ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ha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ussy-c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l gatt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a gat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s 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tz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Vever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quirr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’écure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l squoiat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s Eich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  <a:ea typeface="Arial"/>
              </a:rPr>
              <a:t>rn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Bufn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e hibo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a civet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ie e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1:25:31Z</dcterms:created>
  <dc:creator>Le00</dc:creator>
  <dc:description/>
  <dc:language>en-US</dc:language>
  <cp:lastModifiedBy>Le00</cp:lastModifiedBy>
  <dcterms:modified xsi:type="dcterms:W3CDTF">2012-11-28T11:35:06Z</dcterms:modified>
  <cp:revision>3</cp:revision>
  <dc:subject/>
  <dc:title>Slide 1</dc:title>
</cp:coreProperties>
</file>