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C393B-7E5C-4513-B93D-5EE5EAA76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70820-8E31-491C-8E88-C9308D4C9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D394A-7701-441E-A038-CB6EA11B8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23CE5-F6BC-41ED-B5F7-FF852E157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2E5E1-36A0-495C-8C20-2DC515ACA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A3435-AE2E-4020-A088-BF4B5733D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E3102-8F94-4C1D-AE11-EFDE13B00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ED6DD-BBA4-4BBA-A80F-B653880E2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C622B-A17A-4DEF-92F2-E03336647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A388C-2DC2-47A9-A834-7F3CAAEAD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CF845-B2C4-4B60-8C2B-8A2E4F4A7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FD8CC-BADB-41D9-8213-7402099043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3F0F2-1D23-446F-A9EA-7969BC9E8B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0</a:t>
            </a:r>
            <a:br>
              <a:rPr sz="1000"/>
            </a:br>
            <a:r>
              <a:rPr b="0" lang="en-US" sz="1000" spc="-1" strike="noStrike">
                <a:solidFill>
                  <a:srgbClr val="000000"/>
                </a:solidFill>
                <a:latin typeface="Arial"/>
              </a:rPr>
              <a:t>Proba de evaluare a competenţelor digitale – document de lucru</a:t>
            </a:r>
            <a:br>
              <a:rPr sz="1000"/>
            </a:br>
            <a:endParaRPr b="0" lang="en-US" sz="1000" spc="-1" strike="noStrike">
              <a:solidFill>
                <a:srgbClr val="000000"/>
              </a:solidFill>
              <a:latin typeface="Arial"/>
            </a:endParaRPr>
          </a:p>
        </p:txBody>
      </p:sp>
      <p:sp>
        <p:nvSpPr>
          <p:cNvPr id="45" name=""/>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6" name="" descr=""/>
          <p:cNvPicPr/>
          <p:nvPr/>
        </p:nvPicPr>
        <p:blipFill>
          <a:blip r:embed="rId1"/>
          <a:stretch/>
        </p:blipFill>
        <p:spPr>
          <a:xfrm>
            <a:off x="5867280" y="1828800"/>
            <a:ext cx="2847960" cy="28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0</a:t>
            </a:r>
            <a:br>
              <a:rPr sz="1000"/>
            </a:br>
            <a:r>
              <a:rPr b="0" lang="en-US" sz="1000" spc="-1" strike="noStrike">
                <a:solidFill>
                  <a:srgbClr val="000000"/>
                </a:solidFill>
                <a:latin typeface="Arial"/>
              </a:rPr>
              <a:t>Proba de evaluare a competenţelor digitale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a:p>
            <a:pPr lvl="3" marL="17524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7524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IC6_col</cp:lastModifiedBy>
  <dcterms:modified xsi:type="dcterms:W3CDTF">2010-03-23T14:17:55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