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7DF-3E10-42D4-A401-6437DAE4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850-5E48-464C-B3A2-4B8EA3CD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AAC-BD26-4FD2-9204-AF002692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894-242D-4300-9952-D888CA68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A4E-87A1-41A3-8660-E1B294FC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505-8C03-49FB-9E39-E2BB670E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E14-3D0D-4395-9787-7C812D44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C43-FA01-407A-A177-B2442E58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BEC-A449-4010-AE68-724FE132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2E0-A31F-4555-AAF0-AC6F76E4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518-2814-4497-877A-20C4C6CB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B06-51E2-43CF-8A74-5AB452C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5CD4-E93F-416E-8F6F-13C779115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1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1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CNCEIP2</cp:lastModifiedBy>
  <dcterms:modified xsi:type="dcterms:W3CDTF">2011-05-10T07:41:14Z</dcterms:modified>
  <cp:revision>1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