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577AB-F286-4C21-9A76-644542C6B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830C6-58D9-417C-AE10-26C2293F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F86B1-6501-4840-93F7-CAB631166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E035F-6722-4943-A00B-EE445191A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51185-74AC-45A7-8814-F4FE66946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F1A7-823D-4A29-A9CC-914EF39C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20EF4-3D8A-4E53-BD26-A3E603501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865F-CBC1-45AA-A209-10F39EFBB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9728-BE9D-4B2B-9AD4-2BE84114E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BE035-8B1E-435A-889C-8FAF7BFD2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C34C-7233-4063-98B4-C443E07DD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D24C7-7F99-4043-A49B-AFC356F06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01EB-97E3-41AB-8472-289A7C1F14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zentăm mai jos câteva exemple de itemi din unele teste de inteligenţă.</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re este numărul care lipseşte din al treilea şir </a:t>
            </a:r>
            <a:r>
              <a:rPr b="0" lang="en-GB"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TIC6_col</cp:lastModifiedBy>
  <dcterms:modified xsi:type="dcterms:W3CDTF">2010-03-22T13:44:30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