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93114-E3F2-48C0-B242-D6ABB8E16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0EF1E-55B2-4FA7-B2B3-6D4A46530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8F0B5-65C0-4BB1-9813-475BEF3D2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88E34-DE0C-47D8-8BE4-FCD49A946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1C529-9D2A-49A3-AA4D-F59EA1450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FC068-6CEA-456C-AD94-8BD475E78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9F9A8-BF06-4F0B-9105-F79009E39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B5328-3EA0-422B-8DD3-D96BD943B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3C611-C5C2-4185-87A4-CA503D54C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AFB82-134C-43A5-974E-E649E7990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4E4E5-C1F0-495C-906A-8B89E57B8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BD0C6-FC9A-407C-8AD1-904A5DFFC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90E3-CB59-4346-A40B-6941253673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ELE DIN </a:t>
            </a:r>
            <a:r>
              <a:rPr b="1" lang="ro-RO" sz="1400" spc="-1" strike="noStrike">
                <a:solidFill>
                  <a:srgbClr val="000000"/>
                </a:solidFill>
                <a:latin typeface="Arial"/>
                <a:ea typeface="Arial"/>
              </a:rPr>
              <a:t>ASIA</a:t>
            </a:r>
            <a:endParaRPr b="0" lang="en-US" sz="1400" spc="-1" strike="noStrike">
              <a:solidFill>
                <a:srgbClr val="000000"/>
              </a:solidFill>
              <a:latin typeface="Arial"/>
            </a:endParaRPr>
          </a:p>
        </p:txBody>
      </p:sp>
      <p:sp>
        <p:nvSpPr>
          <p:cNvPr id="42" name="PlaceHolder 2"/>
          <p:cNvSpPr>
            <a:spLocks noGrp="1"/>
          </p:cNvSpPr>
          <p:nvPr>
            <p:ph type="subTitle"/>
          </p:nvPr>
        </p:nvSpPr>
        <p:spPr>
          <a:xfrm>
            <a:off x="2209680" y="3885840"/>
            <a:ext cx="6400800" cy="7621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Geografie</a:t>
            </a:r>
            <a:r>
              <a:rPr b="0" i="1" lang="en-US" sz="1000" spc="-1" strike="noStrike">
                <a:solidFill>
                  <a:srgbClr val="000000"/>
                </a:solidFill>
                <a:latin typeface="Arial"/>
              </a:rPr>
              <a:t>, </a:t>
            </a:r>
            <a:r>
              <a:rPr b="0" i="1" lang="ro-RO" sz="1000" spc="-1" strike="noStrike">
                <a:solidFill>
                  <a:srgbClr val="000000"/>
                </a:solidFill>
                <a:latin typeface="Arial"/>
              </a:rPr>
              <a:t>clasa a VII </a:t>
            </a:r>
            <a:r>
              <a:rPr b="0" i="1" lang="it-IT" sz="1000" spc="-1" strike="noStrike">
                <a:solidFill>
                  <a:srgbClr val="000000"/>
                </a:solidFill>
                <a:latin typeface="Arial"/>
              </a:rPr>
              <a:t>-a</a:t>
            </a:r>
            <a:r>
              <a:rPr b="0" lang="it-IT" sz="1000" spc="-1" strike="noStrike">
                <a:solidFill>
                  <a:srgbClr val="000000"/>
                </a:solidFill>
                <a:latin typeface="Arial"/>
              </a:rPr>
              <a:t>, Silviu Neguţ, Gabriela Apostol</a:t>
            </a:r>
            <a:r>
              <a:rPr b="0" lang="en-US" sz="1000" spc="-1" strike="noStrike">
                <a:solidFill>
                  <a:srgbClr val="000000"/>
                </a:solidFill>
                <a:latin typeface="Arial"/>
              </a:rPr>
              <a:t>)</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1</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a:t>
            </a:r>
            <a:r>
              <a:rPr b="0" lang="ro-RO" sz="1000" spc="-1" strike="noStrike">
                <a:solidFill>
                  <a:srgbClr val="000000"/>
                </a:solidFill>
                <a:latin typeface="Arial"/>
              </a:rPr>
              <a:t>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1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294920"/>
            <a:ext cx="4572000" cy="449604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Asia este un continent bogat în cursuri de apă, lacuri şi ape subterane, dar, spre deosebire de Europa, pe întinsul ei există mari contraste în ceea ce priveşte repartizarea geografică a acestora. Astfel, în Asia se află regiuni endoreice, respectiv cu ape care nu se varsă în Oceanul Planetar. Cel mai întins asemenea areal este cel din Asia Centrală, care se desfăşoară de la Marea Caspică până Munţii Tian Shan. Există şi aici fluvii, dar acestea fie debuşează în lacuri (de exemplu Amu-Daria, în Lacul Aral), fie se pierd în nisipuri (Tarim) sau în mlaştini.</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istă şi întinse regiuni ar</a:t>
            </a:r>
            <a:r>
              <a:rPr b="0" lang="en-GB" sz="1200" spc="-1" strike="noStrike">
                <a:solidFill>
                  <a:srgbClr val="000000"/>
                </a:solidFill>
                <a:latin typeface="Arial"/>
              </a:rPr>
              <a:t>eice</a:t>
            </a:r>
            <a:r>
              <a:rPr b="0" lang="ro-RO" sz="1200" spc="-1" strike="noStrike">
                <a:solidFill>
                  <a:srgbClr val="000000"/>
                </a:solidFill>
                <a:latin typeface="Arial"/>
              </a:rPr>
              <a:t>, adică fără ape curgătoare, cum sunt Podişul Arabiei şi partea centrală a podişului Karakum.</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ile fluvii asiatice se îndreaptă spre oceanele care limitează continentul: Obi, Enisei, Lena (Oceanul Artic); Amur, Huang He, Changjiang, Mekong (Oceanul Pacific); Salween, Gange, Indus, Tigru, Eufrat (Oceanul Indian).</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 vărsarea în mare, unele fluvii formează delte. Dintre acestea, cea formată de fluviile Gange şi Brahmaputra este cea mai mare de pe glob (aproape cât jumătate din întinderea ţării noastre), iar cea a fluviului Huang He, din cauza marii cantităţi de aluviuni cărate de ape, are cea mai rapidă avansare (circa 200 m anual).</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ia este bogată în lacuri. Unele sunt foarte întinse, purtând numele de „mare”: Marea Caspică, Marea Aral, Marea Moartă. Acestea reprezintă de fapt rămăşiţele unor vechi mări. Altele sunt foarte adânci, de exemplu Baikal, care deţine recordul mondial în domeniu (1620 m).</a:t>
            </a:r>
            <a:endParaRPr b="0" lang="en-US" sz="1200" spc="-1" strike="noStrike">
              <a:solidFill>
                <a:srgbClr val="000000"/>
              </a:solidFill>
              <a:latin typeface="Arial"/>
            </a:endParaRPr>
          </a:p>
        </p:txBody>
      </p:sp>
      <p:pic>
        <p:nvPicPr>
          <p:cNvPr id="46" name="Picture 14" descr="comp_i"/>
          <p:cNvPicPr/>
          <p:nvPr/>
        </p:nvPicPr>
        <p:blipFill>
          <a:blip r:embed="rId1"/>
          <a:stretch/>
        </p:blipFill>
        <p:spPr>
          <a:xfrm>
            <a:off x="5562720" y="1828800"/>
            <a:ext cx="2809800" cy="2809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1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371600"/>
            <a:ext cx="8229600" cy="4952880"/>
          </a:xfrm>
          <a:prstGeom prst="rect">
            <a:avLst/>
          </a:prstGeom>
          <a:noFill/>
          <a:ln w="0">
            <a:noFill/>
          </a:ln>
        </p:spPr>
        <p:txBody>
          <a:bodyPr anchor="t">
            <a:normAutofit/>
          </a:bodyPr>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ro-RO" sz="1200" spc="-1" strike="noStrike">
                <a:solidFill>
                  <a:srgbClr val="000000"/>
                </a:solidFill>
                <a:latin typeface="Arial"/>
              </a:rPr>
              <a:t>Răspundeţi la următoarele întrebări:</a:t>
            </a:r>
            <a:endParaRPr b="0" lang="en-US" sz="1200" spc="-1" strike="noStrike">
              <a:solidFill>
                <a:srgbClr val="000000"/>
              </a:solidFill>
              <a:latin typeface="Arial"/>
            </a:endParaRPr>
          </a:p>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gn="just">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alizaţi harta fizico-geografică a Asiei şi tabelul de mai jos, şi notaţi în caiete:</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iginea principalelor lacuri;</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cu suprafeţe variabile;</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aflate la cea mai joasă altitudine de pe glob.</a:t>
            </a:r>
            <a:endParaRPr b="0" lang="en-US" sz="1200" spc="-1" strike="noStrike">
              <a:solidFill>
                <a:srgbClr val="000000"/>
              </a:solidFill>
              <a:latin typeface="Arial"/>
            </a:endParaRPr>
          </a:p>
          <a:p>
            <a:pPr marL="609480" indent="-609480" algn="just">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numeraţi câte trei fluvii asiatice care se varsă în:</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eanul Arctic;</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eanul Pacific;</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eanul Indian.</a:t>
            </a:r>
            <a:endParaRPr b="0" lang="en-US" sz="1200" spc="-1" strike="noStrike">
              <a:solidFill>
                <a:srgbClr val="000000"/>
              </a:solidFill>
              <a:latin typeface="Arial"/>
            </a:endParaRPr>
          </a:p>
          <a:p>
            <a:pPr marL="609480" indent="-609480" algn="just">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rmărind hărţile alăturate, enumeraţi principalele patru fluvii asiatice:</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 lungime;</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 debit mediu</a:t>
            </a:r>
            <a:r>
              <a:rPr b="0" lang="en-US" sz="1200" spc="-1" strike="noStrike">
                <a:solidFill>
                  <a:srgbClr val="000000"/>
                </a:solidFill>
                <a:latin typeface="Arial"/>
              </a:rPr>
              <a:t>;</a:t>
            </a:r>
            <a:endParaRPr b="0" lang="en-US" sz="1200" spc="-1" strike="noStrike">
              <a:solidFill>
                <a:srgbClr val="000000"/>
              </a:solidFill>
              <a:latin typeface="Arial"/>
            </a:endParaRPr>
          </a:p>
          <a:p>
            <a:pPr lvl="3" marL="2057400" indent="-380880" algn="just">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 debit maxim</a:t>
            </a:r>
            <a:r>
              <a:rPr b="0" lang="ro-RO"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CNCEIP2</cp:lastModifiedBy>
  <dcterms:modified xsi:type="dcterms:W3CDTF">2011-05-10T07:41:14Z</dcterms:modified>
  <cp:revision>1</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