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861C4-D5CA-4C0F-AF48-F90A15730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3D5A2-60DD-4736-A2EF-3EA7D5F2D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AA0D8-1729-4874-8CAF-0113D1ED9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D059F-1AA5-4780-A6B7-1A884BB7D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11769-4E86-448D-B682-8EE950316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BB19E-5165-437C-8BC0-8D7E66929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E7A1C-F000-4307-9E59-03FB74D36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39F64-DFF6-4E02-A856-51CED9871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88868-D2E8-4E50-950B-AC1B14342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E68F7-1293-4E22-B09A-F7C4E4954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420FA-C691-44CC-82CC-94AAEE11B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C6251-F935-409A-BD53-C674C96D0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B678-2725-45B3-A4CE-7CF529DCBF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1000"/>
            </a:br>
            <a:endParaRPr b="0" lang="en-US" sz="1000" spc="-1" strike="noStrike">
              <a:solidFill>
                <a:srgbClr val="000000"/>
              </a:solidFill>
              <a:latin typeface="Arial"/>
            </a:endParaRPr>
          </a:p>
        </p:txBody>
      </p:sp>
      <p:sp>
        <p:nvSpPr>
          <p:cNvPr id="45" name=""/>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6" name="" descr=""/>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C6_col</cp:lastModifiedBy>
  <dcterms:modified xsi:type="dcterms:W3CDTF">2010-03-23T14:17:55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