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39C-21F7-41E0-8066-6AD5F917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E21-ACD0-485F-A2F7-865CB46E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881-2023-4D3B-B32F-FC90239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CF6-913C-410F-B787-5C2B3089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51-82A7-43F4-BB3E-8EA9CC55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0C9-90F1-42E1-8C2D-202C4B02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448-BC38-4A42-8A51-51A9FA3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A02-D256-434A-9AA2-EB69671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494-828E-45B6-B514-E3614BF4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B06-0EA3-49E7-91D7-04C599E7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34F-8760-418A-ABF6-1394169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239-13F3-4A37-8F49-04336BB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D75-7640-45B5-B488-1E8A46906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Digitale</cp:lastModifiedBy>
  <dcterms:modified xsi:type="dcterms:W3CDTF">2010-03-31T13:20:38Z</dcterms:modified>
  <cp:revision>3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