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F18-4880-4E96-A71F-910D90B9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620-C0CD-4E21-B50A-C2C2DE1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8C0-E2FC-4B6B-AA69-10E05646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087-1265-4824-91A7-4606B001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30C-6639-4EF1-9C1C-243723E7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B7A-ABBE-4BA4-B4F8-4771F05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4D2-E6FD-45F0-A1BD-0240145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D98-4629-44A8-B4FB-38DD5C3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6FD-F5D8-4E14-A78E-0DE22631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5F0-0EA0-4FF1-9808-F044548F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ECF-FDCC-4076-99F0-7A740D1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758-9959-40FA-930F-699DFDB2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355F-4390-4AFF-8E37-1DC92C6D5ED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16T09:57:31Z</dcterms:modified>
  <cp:revision>17</cp:revision>
  <dc:subject/>
  <dc:title>Slide 1</dc:title>
</cp:coreProperties>
</file>