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536-E95B-4B3F-A439-A735B82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E75-A85A-4F99-B82D-D1CC009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309-43DC-4D0D-A16C-FBDC2882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E6D-3B75-454C-8909-91B59F61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4A3D-74E0-4DFA-90D1-3967A8FE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350F-516A-4A18-824E-6D2B9BF9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04A1-BB59-40B6-B294-B68604D5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BC37-4403-48DA-B001-5467DCF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C60E-39C3-437D-A160-689F6945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90D9-0AD1-45C7-9CE5-782E81CA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328-8553-4682-9C64-974FACB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C33-E2A0-47F0-8C32-CE830326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9F12-32DB-4CC9-AC3B-4DDE8244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2BA6-2D26-43C3-8090-EE6EE47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EFFD-7558-4161-A78A-B51A827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E05C-EB1E-4B1A-8154-EB164126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DFBC-5A4A-4AEF-8E06-DBBF8D5C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2A5A-3056-4481-90D1-8DF8F466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0770-2CB0-4F6B-9C60-E5C11413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7271-5E01-4700-A8C8-DE43A6C4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CC14-F28D-4070-910F-D9E5D47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E980-8CFF-4FAA-BE6A-9D89E069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60D-B4DC-4900-8C58-A9A53300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0B78-D911-46A9-9D81-63C3074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657E-FD3F-460F-B457-EBFB1C2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35B9-AD9A-41C1-B469-8011082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8A6D-2410-4B3D-9AD1-0E9A4B95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D3BB-A479-4964-85D7-BABFF8B5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EEAC-CC09-4A82-ADBA-D5202A87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48C0-5578-45BF-921F-B59B3620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B152-6684-4AA6-AEBF-B19E04FC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05D20-93D6-4C97-ABDD-1035A81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37C2-947D-4D5F-AF5A-6CB8DF72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EFA-5A96-4F50-A25D-21FBC11E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EF402-60ED-40C3-AFC6-EF3C52B5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D789-D9B5-47E3-AB3F-FA5A3A7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2387-28F7-4CF9-9FDD-D30484B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8C4E-CC5D-42EF-AF73-F2C5ED2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0270-3D0D-451B-A213-725F5D89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54DE-D5C8-457C-AC9B-189CF6C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F813-9DD1-4723-9040-8264D221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C8F1-F1E2-4B38-82A6-4D48D9C0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1B9E-2261-4DD5-AF3E-81A3C298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3ED-C526-41AB-9D73-9B5041EC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D2B-ACC7-4156-A6F7-9F33566C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E28-64AF-4C8C-97A2-A30CFD6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EBF-01D9-4E34-A369-BF5043E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976-870D-436A-A9D1-ED909C92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9D66-4856-47F2-BE61-0FCF4F501DC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7172-6C81-44E9-9C8E-2BCB40B3BF1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3D61-E09E-47DE-9C50-5F1CA3B1F2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9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9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0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081A-6F3B-4CBC-A877-7539E4C81A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Dictionnaires du français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cette présentation nous allons voir quelques exemples de dictionnaires du français en ligne, su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Voici 3 exemples de dictionnaires web du françai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72292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ww.tv5.or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nçais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génér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ww.dicofr.c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nçais informa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ww.linux-france.org/prj/jargon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nçais informa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66880" y="604800"/>
            <a:ext cx="7410240" cy="5648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987640" y="1628640"/>
            <a:ext cx="2016000" cy="1150920"/>
          </a:xfrm>
          <a:prstGeom prst="wedgeRectCallout">
            <a:avLst>
              <a:gd name="adj1" fmla="val -89527"/>
              <a:gd name="adj2" fmla="val 112342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lectionnez tout d'abord cette section de la page d'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57160" y="571680"/>
            <a:ext cx="7429680" cy="5715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987640" y="1557360"/>
            <a:ext cx="2881440" cy="1150920"/>
          </a:xfrm>
          <a:prstGeom prst="wedgeRectCallout">
            <a:avLst>
              <a:gd name="adj1" fmla="val 71486"/>
              <a:gd name="adj2" fmla="val 219379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oisissez ensuite la section «définitions» de cette page pour accéder au dic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66880" y="642960"/>
            <a:ext cx="7410240" cy="5572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348000" y="1268280"/>
            <a:ext cx="2232000" cy="1224000"/>
          </a:xfrm>
          <a:prstGeom prst="wedgeRectCallout">
            <a:avLst>
              <a:gd name="adj1" fmla="val -69203"/>
              <a:gd name="adj2" fmla="val 168675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ssez ici le terme dont vous désirez apprendre la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3213000"/>
            <a:ext cx="1656000" cy="936720"/>
          </a:xfrm>
          <a:prstGeom prst="wedgeRectCallout">
            <a:avLst>
              <a:gd name="adj1" fmla="val -106759"/>
              <a:gd name="adj2" fmla="val 24916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uyez ensuite sur le bouton «OK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171440" y="676440"/>
            <a:ext cx="6801120" cy="5505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156360" y="260280"/>
            <a:ext cx="2232000" cy="1224000"/>
          </a:xfrm>
          <a:prstGeom prst="wedgeRectCallout">
            <a:avLst>
              <a:gd name="adj1" fmla="val -26601"/>
              <a:gd name="adj2" fmla="val 157393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ssez ici le terme dont vous désirez apprendre la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8720" y="3933720"/>
            <a:ext cx="1656000" cy="936720"/>
          </a:xfrm>
          <a:prstGeom prst="wedgeRectCallout">
            <a:avLst>
              <a:gd name="adj1" fmla="val -28620"/>
              <a:gd name="adj2" fmla="val -160509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uyez ensuite sur le bouton «OK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066680" y="1495440"/>
            <a:ext cx="7010640" cy="3867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708360" y="4149720"/>
            <a:ext cx="3816360" cy="12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5373720"/>
            <a:ext cx="2592360" cy="934920"/>
          </a:xfrm>
          <a:prstGeom prst="wedgeRectCallout">
            <a:avLst>
              <a:gd name="adj1" fmla="val 86495"/>
              <a:gd name="adj2" fmla="val -119101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éfinition du terme recherché s'affiche sur une nouvell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62120" y="561960"/>
            <a:ext cx="7619760" cy="5734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19640" y="0"/>
            <a:ext cx="2232000" cy="1224000"/>
          </a:xfrm>
          <a:prstGeom prst="wedgeRectCallout">
            <a:avLst>
              <a:gd name="adj1" fmla="val -139402"/>
              <a:gd name="adj2" fmla="val 402787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ssez ici le terme dont vous désirez apprendre la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5013360"/>
            <a:ext cx="2016000" cy="936720"/>
          </a:xfrm>
          <a:prstGeom prst="wedgeRectCallout">
            <a:avLst>
              <a:gd name="adj1" fmla="val -125435"/>
              <a:gd name="adj2" fmla="val 34069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uyez ensuite sur le bouton «chercher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-9360" y="738360"/>
            <a:ext cx="9162720" cy="5381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5280" y="3213000"/>
            <a:ext cx="7235640" cy="236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9640" y="476280"/>
            <a:ext cx="2592360" cy="934920"/>
          </a:xfrm>
          <a:prstGeom prst="wedgeRectCallout">
            <a:avLst>
              <a:gd name="adj1" fmla="val -143754"/>
              <a:gd name="adj2" fmla="val 249319"/>
            </a:avLst>
          </a:prstGeom>
          <a:solidFill>
            <a:srgbClr val="c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éfinition du terme recherché s'affiche sur une nouvell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6:14:33Z</dcterms:created>
  <dc:creator>Dorulete</dc:creator>
  <dc:description/>
  <dc:language>en-US</dc:language>
  <cp:lastModifiedBy>Dorulete</cp:lastModifiedBy>
  <dcterms:modified xsi:type="dcterms:W3CDTF">2006-12-13T06:54:14Z</dcterms:modified>
  <cp:revision>11</cp:revision>
  <dc:subject/>
  <dc:title>Dictionnaires du français </dc:title>
</cp:coreProperties>
</file>