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B128-33CC-4ED2-841A-EEF51E92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60EF-57D6-4D18-A43D-5118C012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E3D-C03A-4ED6-A58D-E753DEC6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E3C-614A-4C11-A08D-B732FED3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3082-BD23-4EF1-B9D7-FB29284E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DFDF-FC8D-4C50-A227-F28575A3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CF2D-906C-4DA5-BDFE-DD0BFECB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60F6-C1E5-4846-AF6B-1F45347A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41BA-1302-4C4E-AD7D-6ABFED5C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A2F0-8C04-430B-9AD9-894D5953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E662-2D44-4E27-BA82-808DF65C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D94-9348-44B6-B5E4-F51AB932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31E3-9B75-4401-8C65-4F9E20B1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E913-8F50-4F36-B651-0D057D17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D497-7CFB-45E6-9297-7330A2BC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B993-9D71-44B7-B900-D3FF683F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EF23-F30A-492F-8618-0E372B39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BA0-FED8-4CE0-B6D7-2E6848D7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86E-4D1A-4190-B65F-BC7A2485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BED0-E676-40B2-B3FC-0D4637C9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5AA-E1BE-43B9-B95C-558A2E68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7DC-CEB7-4CBC-80A1-FBB5535B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314-AEC0-433C-A8F3-4BF0B7BA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32F-71BD-450C-9774-CC58B303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1333-0254-4FA6-A3C2-568C04FC18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D9E4-3074-48E9-AC25-48465192EE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Les boucles en C++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n les appelle aussi instructions répétiti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s boucles à test initi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 la forme génér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tant q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    ...instruction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e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tant que 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       éc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       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boucles à test ini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boucles à test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boucles à comp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s boucles à test fi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 la forme génér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répé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    ...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jusqu’à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e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répé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       éc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       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jusqu’à i&gt;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s boucles à compteu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 la forme génér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pou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te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_in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_f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[</a:t>
            </a:r>
            <a:r>
              <a:rPr b="0" i="1" lang="en-US" sz="3200" spc="-1" strike="noStrike">
                <a:solidFill>
                  <a:srgbClr val="99ccff"/>
                </a:solidFill>
                <a:latin typeface="Arial"/>
              </a:rPr>
              <a:t>pas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    ...instruction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e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pour i=1,10 f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       éc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7:17:44Z</dcterms:created>
  <dc:creator>Administrateur</dc:creator>
  <dc:description/>
  <dc:language>en-US</dc:language>
  <cp:lastModifiedBy>Administrateur</cp:lastModifiedBy>
  <dcterms:modified xsi:type="dcterms:W3CDTF">2009-02-16T07:30:17Z</dcterms:modified>
  <cp:revision>4</cp:revision>
  <dc:subject/>
  <dc:title>Diapositive 1</dc:title>
</cp:coreProperties>
</file>