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66AB-9BD5-46F3-97F6-742BECD75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8DD2-5C70-40F4-BB36-9ABBE3C5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8427-0AB2-4BFB-BEFE-6FFA106EE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80C5-8C8F-4481-96DB-E58E4D1DD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FADC-DE13-4FBD-8802-C15DC2DC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9F0D-CF3E-482C-872B-CE038AF7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149F-8241-4C64-BAE2-3DA9C4EA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5479-86EC-4280-9029-E69DBEA7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9BA4-40F6-490B-9AFC-3ED3BD9B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80E1-838F-4BB2-B07C-7011955F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0E9A-1EAF-4BC2-ACF9-3675D77F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956C-B4D2-4330-A238-237C98DC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B1AD-3AF3-44E7-B50D-39C911A0F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609480" y="4876920"/>
            <a:ext cx="838440" cy="685800"/>
          </a:xfrm>
          <a:custGeom>
            <a:avLst/>
            <a:gdLst>
              <a:gd name="textAreaLeft" fmla="*/ 44280 w 838440"/>
              <a:gd name="textAreaRight" fmla="*/ 794160 w 838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5005" y="1400"/>
                </a:lnTo>
                <a:lnTo>
                  <a:pt x="1400" y="140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5005" y="20200"/>
                </a:lnTo>
                <a:lnTo>
                  <a:pt x="25005" y="140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5" y="2020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5" h="21600">
                <a:moveTo>
                  <a:pt x="16701" y="10800"/>
                </a:moveTo>
                <a:lnTo>
                  <a:pt x="6196" y="17806"/>
                </a:lnTo>
                <a:lnTo>
                  <a:pt x="6196" y="3794"/>
                </a:lnTo>
                <a:close/>
              </a:path>
              <a:path fill="darken" w="26405" h="21600">
                <a:moveTo>
                  <a:pt x="18547" y="3794"/>
                </a:moveTo>
                <a:lnTo>
                  <a:pt x="18547" y="17806"/>
                </a:lnTo>
                <a:lnTo>
                  <a:pt x="20209" y="17806"/>
                </a:lnTo>
                <a:lnTo>
                  <a:pt x="20209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734560" y="4761000"/>
            <a:ext cx="35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Colegiul National"Andrei Saguna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4T07:59:01Z</dcterms:modified>
  <cp:revision>16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