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7D5-861F-4F55-81DF-3A04C3FD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D15-D9F1-46BE-AE7D-767304BA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5BC-606B-4730-A025-3ADECCAD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DAF-7D92-48A1-8DC0-674687C8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E9B-6B0C-4D3A-BC52-8BDD9C68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FD1-0675-4CE4-BF20-CCB3D99E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399-1C60-42AE-ADC0-992C6D30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8F9-0019-4ABF-8820-6183F080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18C-51C6-4B74-9376-F58FBE96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B6C-809E-4766-A766-BBF16974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0E3-A6A7-47A4-88B5-F76B58A5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80C-2ABF-42CF-ACCF-DA1D2792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8C1D-5FFB-43A4-ADAF-54DD16F9D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85800" y="4114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4299" y="14394"/>
                </a:moveTo>
                <a:lnTo>
                  <a:pt x="3794" y="21401"/>
                </a:lnTo>
                <a:lnTo>
                  <a:pt x="3794" y="7388"/>
                </a:lnTo>
                <a:close/>
              </a:path>
              <a:path fill="darken" w="21600" h="28789">
                <a:moveTo>
                  <a:pt x="16144" y="7388"/>
                </a:moveTo>
                <a:lnTo>
                  <a:pt x="16144" y="21401"/>
                </a:lnTo>
                <a:lnTo>
                  <a:pt x="17806" y="21401"/>
                </a:lnTo>
                <a:lnTo>
                  <a:pt x="17806" y="738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62720" y="5105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Colegiul National 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8:43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