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77F-2EC4-46AB-AD42-E57D1115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218-B6BB-485B-B427-A81B2539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C04-4347-4731-929E-E7FEEC98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1B1-CFA2-4331-AEAD-1F85CC8B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783-15DC-453B-BC59-F76CA745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D19-5B9C-46FA-8112-8DF8683B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629-3A50-443E-BEB2-127DF1D2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0C4-161D-466C-94C9-34E201A2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3AB-A422-4AE5-8934-50ADECB1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8DD-F531-4E13-B062-7AE42925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5C3-150D-4B2B-97B2-DC985C8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B54-4992-4E1C-A515-BA964D21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B556-8963-4308-A2C6-5A1569776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8098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4303" y="10800"/>
                </a:moveTo>
                <a:lnTo>
                  <a:pt x="3797" y="17806"/>
                </a:lnTo>
                <a:lnTo>
                  <a:pt x="3797" y="3794"/>
                </a:lnTo>
                <a:close/>
              </a:path>
              <a:path fill="darken" w="21607" h="21600">
                <a:moveTo>
                  <a:pt x="16148" y="3794"/>
                </a:moveTo>
                <a:lnTo>
                  <a:pt x="16148" y="17806"/>
                </a:lnTo>
                <a:lnTo>
                  <a:pt x="17810" y="17806"/>
                </a:lnTo>
                <a:lnTo>
                  <a:pt x="1781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6019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3:42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