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CAD0-48CD-43F9-B01D-89809336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AFCA-C783-4780-92F3-125BC2A1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854-6E28-49B9-B0D5-D5FE50CF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01FE-73F1-4148-AC67-D9763276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93BC-25E8-492C-9898-41015F4F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E9E-E1DF-40DB-8697-089485DD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EB7E-54E4-43D9-9708-A5763FFD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4D7-D0C0-4231-B514-CCCCE6A7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E322-B1F2-4BD4-8890-DFFC6A18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80ED-2705-4A5B-86C5-B2C07A76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387-7F4D-44DC-A111-5AA9763E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461-E1B7-4304-8A01-47E5BDBA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8FCC-B63F-4C36-96E1-7CDDE991D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afa5f9">
                  <a:alpha val="96078"/>
                </a:srgbClr>
              </a:gs>
              <a:gs pos="100000">
                <a:srgbClr val="ff3300">
                  <a:alpha val="98039"/>
                </a:srgbClr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327672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10080" y="5486400"/>
            <a:ext cx="3276720" cy="246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olegiul National Andrei Sagu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5T10:28:50Z</dcterms:modified>
  <cp:revision>16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