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EDF-1813-4E9F-942C-8DC0629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300-9C4F-4913-9623-04A427D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A6C-8A12-4D7C-AF86-459BB680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84F-3BBD-4E1C-93CA-1B3380A6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D5D-ADF6-43FF-BB09-2B66C93D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B38-556D-4F46-BC67-1C9FC64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4B1-8E60-4F41-87BE-04BA13E8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0DE-33AA-446E-9564-56A4A970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60E-3B31-4E3E-9B0A-D7DB7D0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C02-D179-4DFA-8FEB-6F9831D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F86-E59A-4A6C-B01C-72A7337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B64-4AB5-4635-AC58-7AB8BBE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EF96-0386-49B5-8D7D-F50B98016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edit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memorat într-u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fişier surs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 limbajul Pascal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sa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 limbajul C/C++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compilat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i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compil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 Compilatorul realizează și verificarea sintactică a programului, semnalând erorile detectate. Corectarea erorilor se face pri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edit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de la tastatură, fiind urmată de o nouă compilare. Când textul programului nu mai conţine nicio eroare, compilatorul generează un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fişier obiec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obj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 Fişierul obiect este executat prin comand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ediile de program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Un fişier tex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format dintr-o succesiune de caractere ASCII scrise pe una sau mai multe linii (rânduri), pe memorie externă (disc). Sfârşitul fişierului este marcat de o etichetă specială: EOF (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). Prelucrarea unui fişier se face prin mai multe operaţii: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eschid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pentru citire sau scriere)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iti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scri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chid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n prime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n următoare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ș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respectiv 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9:41Z</dcterms:modified>
  <cp:revision>19</cp:revision>
  <dc:subject/>
  <dc:title>MEDIUL LIMBAJULUI DE PROGRAMARE STUDI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