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4A59-B51A-40E6-8522-CC20355AE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CFCC-9D5D-4D15-A371-6C645B03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7E19-547E-44B7-B959-443C455B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523D-AB70-445B-A3EC-CD2895C6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EAD4-378C-4F2E-970C-52B60462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C2EC-7199-4503-AA41-1233AAA4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7AA3-5973-49AC-8155-E67D72B6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9DB1-382E-488A-B497-91F9A9EB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0FD0-3022-46FF-8878-4F449137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EF57-BB60-4879-8215-72C557C6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D507-BFFB-47AC-A912-EBCBB22D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8DA0-9695-43C8-AF08-20268AD6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D684-2877-4B02-BF28-72A7760A1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3333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16002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Las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Rot by="21600000">
                                      <p:cBhvr>
                                        <p:cTn id="6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447920" y="601992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Colegiul National Andrei Sag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4T08:08:08Z</dcterms:modified>
  <cp:revision>16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