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D020-B877-4FED-AF93-71C8C8FA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C15-F5E2-4C7E-85E1-E9170FBD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EA6-02F4-4D6D-8DD6-10FF6DC8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3D5-3557-45CF-99DD-F28C04EC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4F6A-E83D-41BD-BFBD-9DAFD33D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51B1-0CBB-44E7-8DF1-B4148E4F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5639-BB9D-4736-9D5D-F2796E59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A053-4DFC-4780-BAC5-09058196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04A3-DA25-4DCD-8550-029F488F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9AD4-B175-4882-A037-FCD3A68E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27C1-EEDF-415A-B02B-0E851B4E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C30-E54D-49EC-BC19-05BD3D72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31F1-551C-4C5D-B485-F33F12A9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D174-56E0-4D4E-9064-597550D8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FBAA-C387-4B1A-8056-2A3F011A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492A-452E-4008-9436-B3473752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6994-234B-4502-AED5-AC414E68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734B-D1D5-4E82-BDBE-5C0E0DC5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E87-8388-4986-AFD5-6510AFC1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75C-7EB0-45DD-9D69-9BB193BE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F8E3-4600-4412-B0D3-F0B3BF98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E0D0-4742-43D8-AC11-BBBDB517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447-6F97-4335-8F44-E7384C08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1F8-2142-4B5A-BEE8-47075EC9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EE06-5508-4F9C-AF76-93EAAD6DAE2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7B24-86A9-474D-B860-68A1D25369B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sfătuirea inspectorilor educativi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09.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2520" y="175248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52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0000"/>
                </a:solidFill>
                <a:latin typeface="Arial"/>
              </a:rPr>
              <a:t>Obiective MEC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ro-RO" sz="2400" spc="-1" strike="noStrike">
                <a:solidFill>
                  <a:srgbClr val="cc0000"/>
                </a:solidFill>
                <a:latin typeface="Arial"/>
              </a:rPr>
              <a:t> 200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1" lang="ro-RO" sz="2400" spc="-1" strike="noStrike">
                <a:solidFill>
                  <a:srgbClr val="cc0000"/>
                </a:solidFill>
                <a:latin typeface="Arial"/>
              </a:rPr>
              <a:t>-200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1" i="1" lang="ro-RO" sz="2400" spc="-1" strike="noStrike">
                <a:solidFill>
                  <a:srgbClr val="ff9933"/>
                </a:solidFill>
                <a:latin typeface="Arial"/>
              </a:rPr>
              <a:t>. Descentralizar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a.  prin transfer de: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- responsabilitate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- autoritate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- resurse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b. pe 4 domenii: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- curriculum (TC+CDS)manuale 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- resurse umane 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- administrare şi conducere </a:t>
            </a:r>
            <a:r>
              <a:rPr b="1" lang="ro-RO" sz="1000" spc="-1" strike="noStrike">
                <a:solidFill>
                  <a:srgbClr val="292929"/>
                </a:solidFill>
                <a:latin typeface="Arial"/>
              </a:rPr>
              <a:t>(conduce CA: 1/3 beneficiari: elevi, părinţi 1/3 c.d şc., 1/3 consiliul local, dir. este membru)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100" spc="-1" strike="noStrike">
                <a:solidFill>
                  <a:srgbClr val="292929"/>
                </a:solidFill>
                <a:latin typeface="Arial"/>
              </a:rPr>
              <a:t>- finanţare – buget local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80773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sfătuirea inspectorilor educ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100" spc="-1" strike="noStrike">
                <a:solidFill>
                  <a:srgbClr val="ff9933"/>
                </a:solidFill>
                <a:latin typeface="Arial"/>
              </a:rPr>
              <a:t>2. Asigurarea calităţii în învăţământ (OG)</a:t>
            </a:r>
            <a:endParaRPr b="0" lang="en-US" sz="31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700" spc="-1" strike="noStrike">
                <a:solidFill>
                  <a:srgbClr val="292929"/>
                </a:solidFill>
                <a:latin typeface="Arial"/>
              </a:rPr>
              <a:t>- comisie de asigurare a calităţii în fiecare u.ş. (c.d., personal din afara şcolii)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o-RO" sz="2700" spc="-1" strike="noStrike">
                <a:solidFill>
                  <a:srgbClr val="292929"/>
                </a:solidFill>
                <a:latin typeface="Arial"/>
              </a:rPr>
              <a:t>- Legea Calităţii – ANCIP – subordonare MEC</a:t>
            </a: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T</a:t>
            </a:r>
            <a:r>
              <a:rPr b="1" lang="ro-RO" sz="2700" spc="-1" strike="noStrike">
                <a:solidFill>
                  <a:srgbClr val="292929"/>
                </a:solidFill>
                <a:latin typeface="Arial"/>
              </a:rPr>
              <a:t> : 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292929"/>
                </a:solidFill>
                <a:latin typeface="Arial"/>
              </a:rPr>
              <a:t>preşedinte, vicepreşedint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292929"/>
                </a:solidFill>
                <a:latin typeface="Arial"/>
              </a:rPr>
              <a:t>2 departamente: acreditare şi asigurarea calităţii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100" spc="-1" strike="noStrike">
                <a:solidFill>
                  <a:srgbClr val="ff9933"/>
                </a:solidFill>
                <a:latin typeface="Arial"/>
              </a:rPr>
              <a:t>3. Sistemul Educaţional Informatizat SEI</a:t>
            </a:r>
            <a:endParaRPr b="0" lang="en-US" sz="31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292929"/>
                </a:solidFill>
                <a:latin typeface="Arial"/>
              </a:rPr>
              <a:t>până în 2009 se vor conecta la Internet toate şcolile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sfătuirea inspectorilor educ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16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9933"/>
                </a:solidFill>
                <a:latin typeface="Arial"/>
              </a:rPr>
              <a:t>Dirigenţie/ consiliere şi orientare 2005-2006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Programă dirigenţie OMEdC – Repere ale activităţii educative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cls. V-VIII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X,XI,XII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Programă consiliere şi orientare: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cls. IX – OMEdC 3458/9.03.2004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cls. IX, X . SAM – OMEdC 3552/8.04.2004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9933"/>
                </a:solidFill>
                <a:latin typeface="Arial"/>
              </a:rPr>
              <a:t>Dirigenţie/ consiliere şi orientare 2006-2007</a:t>
            </a:r>
            <a:r>
              <a:rPr b="0" lang="en-US" sz="2500" spc="-1" strike="noStrike">
                <a:solidFill>
                  <a:srgbClr val="ff9933"/>
                </a:solidFill>
                <a:latin typeface="Arial"/>
              </a:rPr>
              <a:t>/ 2007-2008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9933"/>
                </a:solidFill>
                <a:latin typeface="Arial"/>
              </a:rPr>
              <a:t>- 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cls. I-IV, V-VIII OMECT nr. 5286/9.10.2006 / site MEdC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cls. 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IX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-XII 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OMECT nr. 5287/9.10.2006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- programe de consiliere şi orientare (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site-ul MEC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T</a:t>
            </a:r>
            <a:r>
              <a:rPr b="0" lang="ro-RO" sz="19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- OMECT nr. 5288/9.10.2006 – privind modalitatea de aplicare a programelor  scolare pentru aria curriculara “consiliere si orientare” in cadrul activitatii educativ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97000" y="127080"/>
            <a:ext cx="688968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sfătuirea inspectorilor educativ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845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ff9933"/>
                </a:solidFill>
                <a:latin typeface="Arial"/>
              </a:rPr>
              <a:t>ROFÎP</a:t>
            </a:r>
            <a:r>
              <a:rPr b="1" lang="ro-RO" sz="1500" spc="-1" strike="noStrike">
                <a:solidFill>
                  <a:srgbClr val="ff9933"/>
                </a:solidFill>
                <a:latin typeface="Arial"/>
              </a:rPr>
              <a:t>  - </a:t>
            </a:r>
            <a:r>
              <a:rPr b="1" lang="ro-RO" sz="1500" spc="-1" strike="noStrike">
                <a:solidFill>
                  <a:srgbClr val="999933"/>
                </a:solidFill>
                <a:latin typeface="Arial"/>
              </a:rPr>
              <a:t>Director educativ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292929"/>
                </a:solidFill>
                <a:latin typeface="Arial"/>
              </a:rPr>
              <a:t>Secţiunea a II - a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292929"/>
                </a:solidFill>
                <a:latin typeface="Arial"/>
              </a:rPr>
              <a:t>Art. 19. Directorul şcolii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292929"/>
                </a:solidFill>
                <a:latin typeface="Arial"/>
              </a:rPr>
              <a:t>f) numeşte învăţătorii / diriginţii la clase şi coordonatorul pentru proiecte şi programe educative şcolare şi extraşcolare, </a:t>
            </a:r>
            <a:r>
              <a:rPr b="0" lang="es-ES" sz="1700" spc="-1" strike="noStrike">
                <a:solidFill>
                  <a:srgbClr val="cc0000"/>
                </a:solidFill>
                <a:latin typeface="Arial"/>
              </a:rPr>
              <a:t>care este şi seful comisiei diriginţilor (propunere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292929"/>
                </a:solidFill>
                <a:latin typeface="Arial"/>
              </a:rPr>
              <a:t>Art.26. </a:t>
            </a:r>
            <a:r>
              <a:rPr b="0" lang="es-ES" sz="1700" spc="-1" strike="noStrike">
                <a:solidFill>
                  <a:srgbClr val="292929"/>
                </a:solidFill>
                <a:latin typeface="Arial"/>
              </a:rPr>
              <a:t>(1) Directorul adjunct </a:t>
            </a:r>
            <a:r>
              <a:rPr b="0" lang="es-ES" sz="1700" spc="-1" strike="noStrike">
                <a:solidFill>
                  <a:srgbClr val="cc0000"/>
                </a:solidFill>
                <a:latin typeface="Arial"/>
              </a:rPr>
              <a:t>răspunde de activitatea educativă şcolară şi extraşcolară din unitatea de învăţământ (propunere),</a:t>
            </a:r>
            <a:r>
              <a:rPr b="0" lang="es-ES" sz="1700" spc="-1" strike="noStrike">
                <a:solidFill>
                  <a:srgbClr val="292929"/>
                </a:solidFill>
                <a:latin typeface="Arial"/>
              </a:rPr>
              <a:t> îndeplineşte atribuţiile delegate de către director pe perioade determinate, precum şi pe cele stabilite prin regulamentul intern al unităţii de învăţământ si preia toateprerogativele in lipsa acestuia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s-ES" sz="1700" spc="-1" strike="noStrike">
                <a:solidFill>
                  <a:srgbClr val="292929"/>
                </a:solidFill>
                <a:latin typeface="Arial"/>
              </a:rPr>
              <a:t>(2) În unităţile de învăţământ gimnazial, liceal şi şcoli de arte şi meserii, </a:t>
            </a:r>
            <a:r>
              <a:rPr b="0" lang="es-ES" sz="1700" spc="-1" strike="noStrike">
                <a:solidFill>
                  <a:srgbClr val="cc0000"/>
                </a:solidFill>
                <a:latin typeface="Arial"/>
              </a:rPr>
              <a:t>directorul adjunct </a:t>
            </a:r>
            <a:r>
              <a:rPr b="0" lang="ro-RO" sz="1700" spc="-1" strike="noStrike">
                <a:solidFill>
                  <a:srgbClr val="cc0000"/>
                </a:solidFill>
                <a:latin typeface="Arial"/>
              </a:rPr>
              <a:t>răspunde de </a:t>
            </a:r>
            <a:r>
              <a:rPr b="0" lang="es-ES" sz="1700" spc="-1" strike="noStrike">
                <a:solidFill>
                  <a:srgbClr val="cc0000"/>
                </a:solidFill>
                <a:latin typeface="Arial"/>
              </a:rPr>
              <a:t>activitatea  coordonatorului pentru proiecte şi programe educative şcolare şi extraşcolare</a:t>
            </a:r>
            <a:r>
              <a:rPr b="0" lang="ro-RO" sz="17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" sz="1700" spc="-1" strike="noStrike">
                <a:solidFill>
                  <a:srgbClr val="cc0000"/>
                </a:solidFill>
                <a:latin typeface="Arial"/>
              </a:rPr>
              <a:t>(propunere). 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999933"/>
                </a:solidFill>
                <a:latin typeface="Arial"/>
              </a:rPr>
              <a:t>Comisie metodică/diriginte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999933"/>
                </a:solidFill>
                <a:latin typeface="Arial"/>
              </a:rPr>
              <a:t>Comitetul de părinţi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9933"/>
                </a:solidFill>
                <a:latin typeface="Arial"/>
              </a:rPr>
              <a:t>Consiliul elevilor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sfătuirea inspectorilor educa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MECT nr. 4100/26.05.2006 – Regulamentul de organizare si functionare a PC/C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sfătuirea inspectorilor educ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590920"/>
            <a:ext cx="1752480" cy="1523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292929"/>
                </a:solidFill>
                <a:latin typeface="Verdana"/>
              </a:rPr>
              <a:t>Unit. Şc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Dir. educativ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Şef comisie metodică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Diriginţ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Elev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Părinţ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2590920"/>
            <a:ext cx="1676520" cy="14475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292929"/>
                </a:solidFill>
                <a:latin typeface="Verdana"/>
              </a:rPr>
              <a:t>Insp. educ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4114800"/>
            <a:ext cx="838080" cy="8380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314840" y="3962160"/>
            <a:ext cx="685800" cy="114300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257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292929"/>
                </a:solidFill>
                <a:latin typeface="Verdana"/>
              </a:rPr>
              <a:t>Calita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5257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292929"/>
                </a:solidFill>
                <a:latin typeface="Verdana"/>
              </a:rPr>
              <a:t>Calita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057400"/>
            <a:ext cx="0" cy="4572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2057400"/>
            <a:ext cx="2971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2971800"/>
            <a:ext cx="10666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92929"/>
                </a:solidFill>
                <a:latin typeface="Verdana"/>
              </a:rPr>
              <a:t>Directori palat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29292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cluburi ale copiil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3505320"/>
            <a:ext cx="1447920" cy="3070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292929"/>
                </a:solidFill>
                <a:latin typeface="Verdana"/>
              </a:rPr>
              <a:t>Activ. de cerc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4800600"/>
            <a:ext cx="2438280" cy="7621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87692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Activ. extracurriculare şi extraşcola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6095880"/>
            <a:ext cx="144792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60958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Comunitate locală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3" idx="4"/>
            <a:endCxn id="114" idx="1"/>
          </p:cNvCxnSpPr>
          <p:nvPr/>
        </p:nvCxnSpPr>
        <p:spPr>
          <a:xfrm flipH="1" rot="16200000">
            <a:off x="3379680" y="3972600"/>
            <a:ext cx="797760" cy="1081800"/>
          </a:xfrm>
          <a:prstGeom prst="curvedConnector5">
            <a:avLst>
              <a:gd name="adj1" fmla="val 43024"/>
              <a:gd name="adj2" fmla="val 50000"/>
              <a:gd name="adj3" fmla="val 43024"/>
            </a:avLst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19" name=""/>
          <p:cNvCxnSpPr>
            <a:stCxn id="104" idx="4"/>
            <a:endCxn id="114" idx="7"/>
          </p:cNvCxnSpPr>
          <p:nvPr/>
        </p:nvCxnSpPr>
        <p:spPr>
          <a:xfrm rot="5400000">
            <a:off x="6051600" y="4029840"/>
            <a:ext cx="874080" cy="891360"/>
          </a:xfrm>
          <a:prstGeom prst="curvedConnector5">
            <a:avLst>
              <a:gd name="adj1" fmla="val 43634"/>
              <a:gd name="adj2" fmla="val 49979"/>
              <a:gd name="adj3" fmla="val 43634"/>
            </a:avLst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120" name=""/>
          <p:cNvCxnSpPr>
            <a:stCxn id="103" idx="4"/>
          </p:cNvCxnSpPr>
          <p:nvPr/>
        </p:nvCxnSpPr>
        <p:spPr>
          <a:xfrm flipH="1" rot="16200000">
            <a:off x="2685240" y="4667040"/>
            <a:ext cx="2286720" cy="1181880"/>
          </a:xfrm>
          <a:prstGeom prst="bentConnector3">
            <a:avLst>
              <a:gd name="adj1" fmla="val 70681"/>
            </a:avLst>
          </a:prstGeom>
          <a:ln w="936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04" idx="4"/>
          </p:cNvCxnSpPr>
          <p:nvPr/>
        </p:nvCxnSpPr>
        <p:spPr>
          <a:xfrm rot="5400000">
            <a:off x="5333400" y="4876560"/>
            <a:ext cx="2439000" cy="762840"/>
          </a:xfrm>
          <a:prstGeom prst="bentConnector3">
            <a:avLst>
              <a:gd name="adj1" fmla="val 72527"/>
            </a:avLst>
          </a:prstGeom>
          <a:ln w="936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 flipV="1">
            <a:off x="5181480" y="5562360"/>
            <a:ext cx="0" cy="5331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3429000"/>
            <a:ext cx="1828800" cy="0"/>
          </a:xfrm>
          <a:prstGeom prst="line">
            <a:avLst/>
          </a:prstGeom>
          <a:ln w="38160">
            <a:solidFill>
              <a:srgbClr val="29292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4114800"/>
            <a:ext cx="2057400" cy="685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41148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92929"/>
                </a:solidFill>
                <a:latin typeface="Verdana"/>
              </a:rPr>
              <a:t>Proiecte programe educative N., In. parteneri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sfătuirea inspectoril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vi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09.2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u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900" spc="-1" strike="noStrike">
                <a:solidFill>
                  <a:srgbClr val="999933"/>
                </a:solidFill>
                <a:latin typeface="Arial"/>
              </a:rPr>
              <a:t>Succes!</a:t>
            </a:r>
            <a:endParaRPr b="0" lang="en-US" sz="39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0:13:07Z</dcterms:created>
  <dc:creator> Calugaru</dc:creator>
  <dc:description/>
  <dc:language>en-US</dc:language>
  <cp:lastModifiedBy> Calugaru</cp:lastModifiedBy>
  <dcterms:modified xsi:type="dcterms:W3CDTF">2007-09-10T08:26:00Z</dcterms:modified>
  <cp:revision>12</cp:revision>
  <dc:subject/>
  <dc:title>Consfătuirea inspectorilor educativi şi a directorilor de palate 7-8.09 - Azuga</dc:title>
</cp:coreProperties>
</file>