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B74-5E15-4BD2-8042-07FE7F15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BDB-8CFF-451B-8E9E-73152713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4AB9-1086-49F0-96F6-C28447C9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9766-B0AF-47C9-A4A1-1338F147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2DFB-15C8-4C27-90AC-F8973905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2CFE-D724-4BEA-880A-95D16612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5C34-98DC-46BF-A2C7-AAF526E7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F121-A718-46C6-91F9-F3E06701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A14-DF41-4BBB-9ADA-D9F7AFFB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D293-1504-450A-9D1A-A202F520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93D2-3DC2-4B13-AE9E-971BC02C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FB6F-0270-4F30-ADF3-70CF2303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6295-B64F-4DDF-9407-35FFD678D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STITUIREA STATELOR MEDIEVALE ÎN SPAȚIUL ROMÂNES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5840"/>
            <a:ext cx="72864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9D1A4-FC46-49F4-BE1F-382A7BBDC55F}" type="datetime8">
              <a:rPr lang="en-US"/>
              <a:t>07/30/26 16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125000"/>
            <a:ext cx="4751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cesul european de constituire a statelor medievale s-a înregistrat şi în spaţiul românesc. Au existat premise interne şi exter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misele interne au fost diverse: creşterea demografică, determinată de dărnicia pământului, resursele solului şi subsolului, configuraţia reliefului, care au asigurat protecţia românilor în vremuri de restrişte; dezvoltarea economică (agricultura, meşteşugurile, creşterea vitelor, comerţul, circulaţia monetară); evoluţia politico-socială, care a condus la procesul de feudalizare, realizându-se trecerea de la uniunile de obşti (romanii populare) la constituirea primelor formaţiuni politice numite cnezate şi voievodate, conduse de cneji, respectiv voievozi. Aceştia aveau atribuţii militare, politice, judecătoreşti şi administrative.[…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 particularitate o reprezintă contribuţia românilor din Transilvania la geneza statelor extracarpatice (Ţara Românească şi Moldova) reflectată în tradiţia descălecatulu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misele externe au stimulat procesul de constituire a statelor medievale. Astfel, prezenţa cumanilor (aceştia au organizat în secolele XI-XIII un stat în câmpia nord-dunăreană) şi a tătarilor (Hanatul Hoardei de Aur în nordul Mării Negre) a creat un echilibru de forţe care a împiedicat Regatul Ungaria, Imperiul Bizantin şi statele ruse Kiev şi Halici să-şi extindă dominaţia asupra spaţiului românes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asemenea, un fapt notabil l-a reprezentat criza internă din Regatul Ungariei, determinată de luptele pentru tron apărute în urma stingerii dinastiei arpadiene, în anul 1301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6" descr="denush.jpg"/>
          <p:cNvPicPr/>
          <p:nvPr/>
        </p:nvPicPr>
        <p:blipFill>
          <a:blip r:embed="rId1"/>
          <a:stretch/>
        </p:blipFill>
        <p:spPr>
          <a:xfrm>
            <a:off x="5435640" y="2276640"/>
            <a:ext cx="323856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iploma ioaniţilor este atestată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3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2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4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Formaţiunile politice din Dobrogea sunt unificate 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eustachi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al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asarab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săvârşirea unificării Moldovei aparţine voievodulu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Roman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rago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etru Muș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Ordonaţi cronologi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upta de la Pos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descălecatul” lui Negru Vod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eustachi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Roman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obrotic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</dc:creator>
  <dc:description/>
  <dc:language>en-US</dc:language>
  <cp:lastModifiedBy>competente</cp:lastModifiedBy>
  <dcterms:modified xsi:type="dcterms:W3CDTF">2010-05-06T10:17:05Z</dcterms:modified>
  <cp:revision>18</cp:revision>
  <dc:subject/>
  <dc:title>Slide 1</dc:title>
</cp:coreProperties>
</file>