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4242-A625-4B3F-AA95-B6FC34BB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C67-B2CC-4915-9063-CD4004BC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1464-CF44-44C2-9946-3DC33185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E0BD-55DF-4623-AE9C-F25B1556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3301-C50D-413F-852E-202D6715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B182-699C-4F9B-8A20-599B65D9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D49C-5575-48C9-8D16-283340EA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F75A-8BB1-409D-A744-AB0E4720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E26C-59A4-4E1D-9811-18BE4DEE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4FD1-A064-479D-9F4B-5475B3DB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E7D0-8717-4E2B-A060-2E5E25CA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7BB1-C046-452C-BE70-DEAA6105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3DC8-7E5F-43FC-AF67-FB629AA5E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380880" y="5257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4303" y="10800"/>
                </a:moveTo>
                <a:lnTo>
                  <a:pt x="3797" y="17806"/>
                </a:lnTo>
                <a:lnTo>
                  <a:pt x="3797" y="3794"/>
                </a:lnTo>
                <a:close/>
              </a:path>
              <a:path fill="darken" w="21607" h="21600">
                <a:moveTo>
                  <a:pt x="16148" y="3794"/>
                </a:moveTo>
                <a:lnTo>
                  <a:pt x="16148" y="17806"/>
                </a:lnTo>
                <a:lnTo>
                  <a:pt x="17810" y="17806"/>
                </a:lnTo>
                <a:lnTo>
                  <a:pt x="1781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" y="59436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Colegiul National Andrei Sag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lona</cp:lastModifiedBy>
  <dcterms:modified xsi:type="dcterms:W3CDTF">2010-04-14T07:58:17Z</dcterms:modified>
  <cp:revision>19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