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3A41-E2E8-4FBB-B21A-2682AA05B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C9A5-F010-4A52-9A69-A7F126A0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BECD-3269-4554-A708-8747AA105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2F14-509C-4D31-B91D-70960AF76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8E6E-9DDC-4740-A727-EF57776C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724A-FB6B-40E2-8ADE-3970F3AD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A8DA-D1F2-4080-895B-E2B54AD4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9A52-C7BA-4641-8C94-B7974E70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49A0-8ED1-4BD0-8289-7D0A0EBF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7CA3-2443-44E5-A864-78F96092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3F90-B820-4DD0-B418-B9C30274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540B-E0EC-47E6-BF29-E204E6DF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F41E-3D54-49DE-AEB4-E640C1BEB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CREŞTEREA ŞI DEZVOLTAREA ECONOMIC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Economie, clasele a X-a şi a XI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Maria Liana Lăcătuş, George-Paul Lăcătuş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economiile cele mai dinamice, care au promovat progresul tehnic şi au înregistrat creşteri rapide la nivelul capacităţilor de producţie, nu au putut asigura o creştere economică permanent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reşterea economică din anumite perioade de timp a fost urmată de recesiune şi depresiune, cu alte cuvinte, de scăderea nivelului producţiei şi a gradului de ocupare a forţei de muncă, de şomaj și infla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Activitatea economică evoluează ciclic, înregistrând creşteri şi căderi period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ste fluctuantă. Unele fluctuaţii reprezintă variaţii sezoniere ale activităţii desfăşurate, însă altele sunt periodice şi ţin de o evoluţie ciclică a econom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iclul economic este intervalul dintre două perioade succesive de creştere economică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 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ecare ciclu economic are o anumită intensitate şi durată şi se deosebeşte, prin acestea, de celelalte, deşi presupune parcurgerea aceloraşi patru faze. Periodicitatea medie a unui ciclu este de 8-10 ani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876560" y="15998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comp_i"/>
          <p:cNvPicPr/>
          <p:nvPr/>
        </p:nvPicPr>
        <p:blipFill>
          <a:blip r:embed="rId1"/>
          <a:stretch/>
        </p:blipFill>
        <p:spPr>
          <a:xfrm>
            <a:off x="4952880" y="2133720"/>
            <a:ext cx="337212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ajul este un dezechilibru economic care constă în existenţa unui surplus de ofertă pe piaţa forţei de mun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a totală cuprin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inap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aptă, dar care nu este disponibil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orţa de muncă - populaţia ocupa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e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ipuri de şomaj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cțional (voluntar sau sezoni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ructur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a combate şomajul, statul promovează politici active de ocupare a forţei de muncă, adoptând măsuri prec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prijinirea creării de locuri de muncă pentru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facilităţi fiscale agenţilor economici care angajează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tegrarea şomerilor în programe de recalificare și creştere a gradului de reintegrare a acestor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subsidii agenţilor economici care angajează absolvenţ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TIC6_col</cp:lastModifiedBy>
  <dcterms:modified xsi:type="dcterms:W3CDTF">2010-01-19T08:26:24Z</dcterms:modified>
  <cp:revision>24</cp:revision>
  <dc:subject/>
  <dc:title>CREŞTEREA ŞI DEZVOLTAREA ECONOMIC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