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266-56BE-4131-933B-8556137B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B25-0A67-421A-B239-CA6058F9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1CD-1B7E-46FB-A563-FCF930B5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5F4-EBB5-464E-8878-CA4AB5AD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0E2-A4FE-416E-8860-73F1A5D1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8D8-DEAB-4A4C-9C36-5A2F90ED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ABA-2BC4-418D-AC7D-18AAD37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CD1-F4D3-4574-9BAD-56916175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F57-2580-41A2-9E8D-F20FEE53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8EB-8C99-4A32-83B5-A3BECD87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F90-A4EC-4D2D-9ADA-B043494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8FC-E958-4F15-8A65-869951E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F8F2-056A-4C9F-A3FB-4770E2D24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990720" y="1295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3794" y="17810"/>
                </a:lnTo>
                <a:lnTo>
                  <a:pt x="3794" y="3797"/>
                </a:lnTo>
                <a:close/>
              </a:path>
              <a:path fill="darken" w="21600" h="21607">
                <a:moveTo>
                  <a:pt x="16144" y="3797"/>
                </a:moveTo>
                <a:lnTo>
                  <a:pt x="16144" y="17810"/>
                </a:lnTo>
                <a:lnTo>
                  <a:pt x="17806" y="17810"/>
                </a:lnTo>
                <a:lnTo>
                  <a:pt x="17806" y="37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5486400"/>
            <a:ext cx="335268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9:00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