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629-4D6E-4679-90A9-674D9F8B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0EB-B012-4EF6-9101-E6E87682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BEE-E91F-48D7-9CB6-96448432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6DE-37E3-4A8E-A7C6-2C4902A8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FF8-2C55-4A3F-B07A-59FECB4C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365-3034-41B1-A58B-00362689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72C-F45F-40B5-8D83-F593A9C3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978-2F5F-4580-AE6D-11FFE8E2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9E8-3208-46F5-8CBD-3AE8E49D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382-0181-4C86-92BE-FBA00683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DF4-5BF1-4DF0-88EE-95EA9FC3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D34-B0F6-4F48-9492-D5E5EBD7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332B-1EA2-44F7-8F05-F4D54C175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752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124080" y="1676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4303" y="10800"/>
                </a:moveTo>
                <a:lnTo>
                  <a:pt x="3797" y="17806"/>
                </a:lnTo>
                <a:lnTo>
                  <a:pt x="3797" y="3794"/>
                </a:lnTo>
                <a:close/>
              </a:path>
              <a:path fill="darken" w="21607" h="21600">
                <a:moveTo>
                  <a:pt x="16148" y="3794"/>
                </a:moveTo>
                <a:lnTo>
                  <a:pt x="16148" y="17806"/>
                </a:lnTo>
                <a:lnTo>
                  <a:pt x="17810" y="17806"/>
                </a:lnTo>
                <a:lnTo>
                  <a:pt x="1781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10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9:09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