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FD1-9CFD-40D9-AA23-82D348F4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D9F-2A1B-4663-8738-059CC1B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4EE-78C0-4049-900E-B1B57599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DBA-8690-4529-B0D0-CBFA8982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55B-5D35-4882-93BE-431686A9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726-BDD1-4865-A402-0F54D35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9A5-9FC3-44B3-A22F-E78A439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F8C-25E2-44A1-9F14-25530FF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586-F791-4BB9-81A5-96846158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FFB-A129-479F-9D6B-52FCDB9C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543-D1C3-490C-9EAC-6EF1F06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48E-8BD4-41AD-9482-33A1E4E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DEBC-D112-431A-A033-9B6A4817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4114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4299" y="14394"/>
                </a:moveTo>
                <a:lnTo>
                  <a:pt x="3794" y="21401"/>
                </a:lnTo>
                <a:lnTo>
                  <a:pt x="3794" y="7388"/>
                </a:lnTo>
                <a:close/>
              </a:path>
              <a:path fill="darken" w="21600" h="28789">
                <a:moveTo>
                  <a:pt x="16144" y="7388"/>
                </a:moveTo>
                <a:lnTo>
                  <a:pt x="16144" y="21401"/>
                </a:lnTo>
                <a:lnTo>
                  <a:pt x="17806" y="21401"/>
                </a:lnTo>
                <a:lnTo>
                  <a:pt x="17806" y="73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5105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43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