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BBC-1C22-44C8-8F9B-7579C66C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131-911F-4E9A-A444-4C02D9F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3BB-625C-4163-84D8-718F86BA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A5B-5E2F-486E-A092-B4D56245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66C-96A4-47E8-BA16-87B8412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05C-FAAF-444D-82D1-CD716417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701-35CD-4E14-BE7A-4C68DFA6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354-19AC-4E00-9428-439F5EA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7CE-1D75-49E5-9B04-5AA1FE2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315-CF26-4D61-9136-6EF9B90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4EB-645D-4642-9F81-BC31805C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37D-38A0-406D-8CBC-E31BBA9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F2F-047B-4863-8F72-DFE0EA55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1371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9694" y="10800"/>
                </a:moveTo>
                <a:lnTo>
                  <a:pt x="9188" y="17806"/>
                </a:lnTo>
                <a:lnTo>
                  <a:pt x="9188" y="3794"/>
                </a:lnTo>
                <a:close/>
              </a:path>
              <a:path fill="darken" w="32390" h="21600">
                <a:moveTo>
                  <a:pt x="21539" y="3794"/>
                </a:moveTo>
                <a:lnTo>
                  <a:pt x="21539" y="17806"/>
                </a:lnTo>
                <a:lnTo>
                  <a:pt x="23201" y="17806"/>
                </a:lnTo>
                <a:lnTo>
                  <a:pt x="23201" y="379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457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Colegiun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7:32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