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AE7-FDCE-4CD9-BE46-FD6D5169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E01-51F0-46EE-94CD-20DF37E1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191-73DD-48CD-B823-36040905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702-4A63-4EFE-A2C9-9D70E58C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D17-3529-4C47-BADB-141BA4F7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0CF-97A3-4066-BA5D-E9280B07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4D4-3160-4C14-9B0C-8DB21B75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5EE-6635-4C33-8B23-F77BD06F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E070-9960-4361-8017-7A923E5E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FDE-5D14-4298-8D4F-86C0154C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171-17B9-46EF-808C-DC44B891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8A1-E63A-435C-A9DA-712C1B83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6361-11C7-44F8-8DC0-465EA5F5D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876560" y="15998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4952880" y="2133720"/>
            <a:ext cx="33721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TIC6_col</cp:lastModifiedBy>
  <dcterms:modified xsi:type="dcterms:W3CDTF">2010-01-19T08:26:24Z</dcterms:modified>
  <cp:revision>24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