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250-ED36-4E74-8627-318708C2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6B8-A02B-44A0-8645-C09D49DD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0F6-BA5A-4F11-ACCA-B5128D47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DAD-7F2B-4344-8F17-F6CAB760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2BD-95FF-4B35-8D59-5D8144F1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CB2-9B53-4C4A-93B2-95031E6D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C32-41F4-4B5F-B6A4-2CCA8D6D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AA7-62A8-46B8-A490-14AC64DA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E7B-2FE4-41AF-B05D-BFCD2CCD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D65-37EB-4748-9FF6-9EEB3B8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C5F-DB43-4462-9973-6F9F588C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352-1387-485B-9F0C-1A98A387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7B7E-4A7A-4F70-8927-C8E37B047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4155e7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533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3794" y="17810"/>
                </a:lnTo>
                <a:lnTo>
                  <a:pt x="3794" y="3797"/>
                </a:lnTo>
                <a:close/>
              </a:path>
              <a:path fill="darken" w="21600" h="21607">
                <a:moveTo>
                  <a:pt x="16144" y="3797"/>
                </a:moveTo>
                <a:lnTo>
                  <a:pt x="16144" y="17810"/>
                </a:lnTo>
                <a:lnTo>
                  <a:pt x="17806" y="17810"/>
                </a:lnTo>
                <a:lnTo>
                  <a:pt x="17806" y="37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58672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8:54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