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D29-31F7-434D-AD60-076A806F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1AB2-A5CB-470E-8EBD-F5CAF307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F89-2783-47AC-8222-A7C999FE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E120-BD7A-4282-8AB3-98E43812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A1D-63FB-4EC0-AED5-47FBC6C7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0AC5-AD3E-4957-8453-3732B319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9EE-3DBC-4F5C-900A-A887F754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3DC-0468-4528-91B2-D62B2260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BF5-FF03-4CF9-9253-7C38B699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C7C-BA07-43FE-A680-9E004868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3BBA-AE00-477C-BAC5-9356FB4E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8E44-B4C0-43F8-8920-83856118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7524-BB57-4C9D-B320-7CEBBC59A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53352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81280" y="6095880"/>
            <a:ext cx="5029200" cy="368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legiul national Andrei Sag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7:58:28Z</dcterms:modified>
  <cp:revision>18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