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867-9286-4B6A-9121-E9196F2B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512-E2AA-4FA5-9228-BC889BB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1F3-06B9-41E3-94AE-8571CA19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AAE-0260-4E21-9A10-61C3F237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065-5DA8-4440-9BD0-6A96FE3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2DF-BBAC-40F0-A2D3-E7071FBE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8D3-B10E-499E-A30B-98C75F2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8C3-2266-4F76-8520-9EEA5E19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944-61BA-4674-9E9E-A889D58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637-FFC6-41EB-8FAD-E7F7B0E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1F7-0151-434C-BE33-9C40F08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8E1-0EDA-4C90-9BE5-59D1797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3D8B-41F8-4FD6-AF50-D9EB3522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Garou-Seul128.wav" TargetMode="External"/><Relationship Id="rId2" Type="http://schemas.microsoft.com/office/2007/relationships/media" Target="file:///tmp/home/.config/libreoffice/4/user/gallery/Garou-Seul12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1:57:21Z</dcterms:created>
  <dc:creator>Administrateur</dc:creator>
  <dc:description/>
  <dc:language>en-US</dc:language>
  <cp:lastModifiedBy>Administrateur</cp:lastModifiedBy>
  <dcterms:modified xsi:type="dcterms:W3CDTF">2010-02-16T11:59:37Z</dcterms:modified>
  <cp:revision>2</cp:revision>
  <dc:subject/>
  <dc:title>Garou</dc:title>
</cp:coreProperties>
</file>