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F82-3955-4FED-B6B7-AA501A02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B2E-89BF-4C1B-8BF9-16D29EB0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01BD-C83F-4942-A2CE-50F14A7A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F15-17CD-4A78-B60B-BD66CFFD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3EB-47BF-4E96-80A8-8AC18613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5F4-39DB-4A3C-BC0A-094DE645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E1F-3651-4717-93E1-A7EA28E4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F7E-7FF9-495D-8769-A6A14C45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824-7D01-4DC3-A488-DC45F6FE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4682-EF9F-4E94-86A0-FC3F700A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9246-FDF5-4619-9320-CD554439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AF62-F786-4238-B8DA-09C07FD9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FD74-766A-4F67-A95D-D3ED0E985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3200400" y="12952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5200" y="10800"/>
                </a:moveTo>
                <a:lnTo>
                  <a:pt x="4695" y="17806"/>
                </a:lnTo>
                <a:lnTo>
                  <a:pt x="4695" y="3794"/>
                </a:lnTo>
                <a:close/>
              </a:path>
              <a:path fill="darken" w="23402" h="21600">
                <a:moveTo>
                  <a:pt x="17045" y="3794"/>
                </a:moveTo>
                <a:lnTo>
                  <a:pt x="17045" y="17806"/>
                </a:lnTo>
                <a:lnTo>
                  <a:pt x="18708" y="17806"/>
                </a:lnTo>
                <a:lnTo>
                  <a:pt x="18708" y="379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99480" y="5715000"/>
            <a:ext cx="412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Colegiul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National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Andrei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Sag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7:58:59Z</dcterms:modified>
  <cp:revision>1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