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BB7-2450-4CD0-9F36-E2C0C783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5B0-DAEF-416D-B334-9F205A32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0B6-6792-4303-BD4E-E44E0F7A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BA7-D917-4904-AFBB-3D5B9F1E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44D-AEBF-42E3-AEBD-F64FFB6E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685-A6D0-46CC-929F-989C9C40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561-911B-47B4-8E82-0A568077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76D-A324-4473-B39F-29480A58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5CEC-6D4F-4B5C-8F40-D9582173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A7F-2A62-4FC1-83C9-DFDDFC84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0D7-5EEE-4D9D-896D-7D6A4AC8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8F0-9B69-457E-BF12-9489AFB8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37F6-2F66-4B84-9744-4348BB982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4114800" y="1219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15282" y="10800"/>
                </a:moveTo>
                <a:lnTo>
                  <a:pt x="4777" y="17806"/>
                </a:lnTo>
                <a:lnTo>
                  <a:pt x="4777" y="3794"/>
                </a:lnTo>
                <a:close/>
              </a:path>
              <a:path fill="darken" w="23566" h="21600">
                <a:moveTo>
                  <a:pt x="17127" y="3794"/>
                </a:moveTo>
                <a:lnTo>
                  <a:pt x="17127" y="17806"/>
                </a:lnTo>
                <a:lnTo>
                  <a:pt x="18790" y="17806"/>
                </a:lnTo>
                <a:lnTo>
                  <a:pt x="18790" y="3794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07800" y="5486400"/>
            <a:ext cx="36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olegiul Na</a:t>
            </a:r>
            <a:r>
              <a:rPr b="0" lang="ro-RO" sz="1800" spc="-1" strike="noStrike">
                <a:solidFill>
                  <a:srgbClr val="9933ff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ional "Andrei </a:t>
            </a:r>
            <a:r>
              <a:rPr b="0" lang="ro-RO" sz="1800" spc="-1" strike="noStrike">
                <a:solidFill>
                  <a:srgbClr val="9933ff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agun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56:58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