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E4C-9CC5-489C-B19D-72EAB669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7CD-9C99-4013-A3DC-01EAE445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C8E-2368-40DF-9D74-DFE99FEC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7B3-A3FF-47E1-97C1-8569D5B2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337-E9C7-4CE1-882B-0BDD4F7C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C85-DB5D-4478-A922-BD7C811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F25-8A8B-4F0D-BDBC-6EA155A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9F7-994E-4C40-BFBE-8607A62B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C35-666D-4154-9C94-75872CA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21B-F2F1-40DA-ACA2-4F38C80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2A1-4A95-48B3-A5FF-2A83F3D2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1B5-E951-4BA4-8DDA-0690684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CAAF-B350-4E1B-963E-18063F572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85800" y="1371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9694" y="10800"/>
                </a:moveTo>
                <a:lnTo>
                  <a:pt x="9188" y="17806"/>
                </a:lnTo>
                <a:lnTo>
                  <a:pt x="9188" y="3794"/>
                </a:lnTo>
                <a:close/>
              </a:path>
              <a:path fill="darken" w="32390" h="21600">
                <a:moveTo>
                  <a:pt x="21539" y="3794"/>
                </a:moveTo>
                <a:lnTo>
                  <a:pt x="21539" y="17806"/>
                </a:lnTo>
                <a:lnTo>
                  <a:pt x="23201" y="17806"/>
                </a:lnTo>
                <a:lnTo>
                  <a:pt x="23201" y="379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457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Colegiun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7:32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