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5A8-D593-4A3A-95DF-05359B31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350-FB2E-4E4F-B135-D185617B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C2C-9431-4A2C-B96A-6F34D3EA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F9B-B0A8-4CE5-B7C6-C5EE409A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550-F486-4947-93F5-9814A277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B4B-948D-4CA9-9A28-BB2BB72D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661-F440-426F-8284-EE816226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F79-A34F-4067-A443-E364A3CA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49A-00BE-404B-A932-16CC1FE4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EA9-3C3B-4E2D-92FF-608A6FC0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D0B-19C5-421A-B37A-555C4D33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22C-D2AE-4AC1-9910-22AC3348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4390-67BD-43B8-AFE2-10E07393B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762120" y="10666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22919" y="10800"/>
                </a:moveTo>
                <a:lnTo>
                  <a:pt x="12413" y="17806"/>
                </a:lnTo>
                <a:lnTo>
                  <a:pt x="12413" y="3794"/>
                </a:lnTo>
                <a:close/>
              </a:path>
              <a:path fill="darken" w="38839" h="21600">
                <a:moveTo>
                  <a:pt x="24764" y="3794"/>
                </a:moveTo>
                <a:lnTo>
                  <a:pt x="24764" y="17806"/>
                </a:lnTo>
                <a:lnTo>
                  <a:pt x="26426" y="17806"/>
                </a:lnTo>
                <a:lnTo>
                  <a:pt x="2642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05520" y="5562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01:14Z</dcterms:modified>
  <cp:revision>17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