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0CFF-EE94-425A-9566-2D85ECA3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CB4E-E394-42DB-A75B-535DC56CA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C60F9-80FB-4A81-B457-6AE19AC97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B665D-356C-4E70-852D-D8704D8A8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C9AA1-6EEB-4CCC-B17E-5F8E04C5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41CFC-F255-4FC4-8216-28DA5B68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3CD7-99A8-4E8A-B39B-E924583C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77E4-489E-4677-912A-36F8AC5C4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DB692-E8A5-46E2-B1AC-C26F3DF1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9AB3-A058-49A5-A337-D5EE66DE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205E-6BA9-4D1B-9A52-E9E0BB67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FA3B-158C-484D-864A-3963FBB3E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EEF9-897F-45AA-BE1A-72E9424C385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SALARI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conomie, clasele a X-a şi a XI-a</a:t>
            </a:r>
            <a:r>
              <a:rPr b="0" lang="ro-RO" sz="1000" spc="-1" strike="noStrike">
                <a:solidFill>
                  <a:srgbClr val="000000"/>
                </a:solidFill>
                <a:latin typeface="Arial"/>
              </a:rPr>
              <a:t>, Maria Liana Lăcătuş, George</a:t>
            </a:r>
            <a:r>
              <a:rPr b="0" lang="en-GB" sz="1000" spc="-1" strike="noStrike">
                <a:solidFill>
                  <a:srgbClr val="000000"/>
                </a:solidFill>
                <a:latin typeface="Arial"/>
              </a:rPr>
              <a:t>-</a:t>
            </a:r>
            <a:r>
              <a:rPr b="0" lang="ro-RO" sz="1000" spc="-1" strike="noStrike">
                <a:solidFill>
                  <a:srgbClr val="000000"/>
                </a:solidFill>
                <a:latin typeface="Arial"/>
              </a:rPr>
              <a:t>Paul Lăcătuş)</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46436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Examenul de bacalaureat 2010 </a:t>
            </a:r>
            <a:r>
              <a:rPr b="0" lang="en-US" sz="1000" spc="-1" strike="noStrike">
                <a:solidFill>
                  <a:srgbClr val="000000"/>
                </a:solidFill>
                <a:latin typeface="Arial"/>
                <a:ea typeface="Calibri"/>
              </a:rPr>
              <a:t>- SIMUL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360" y="907920"/>
            <a:ext cx="4038480" cy="5554800"/>
          </a:xfrm>
          <a:prstGeom prst="rect">
            <a:avLst/>
          </a:prstGeom>
          <a:noFill/>
          <a:ln w="0">
            <a:noFill/>
          </a:ln>
        </p:spPr>
        <p:txBody>
          <a:bodyPr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Salariul este remuneraţia muncii, adică suma plătită posesorului forţei de muncă pentru activitatea desfăşurată. </a:t>
            </a:r>
            <a:r>
              <a:rPr b="0" lang="ro-RO" sz="1200" spc="-1" strike="noStrike">
                <a:solidFill>
                  <a:srgbClr val="000000"/>
                </a:solidFill>
                <a:latin typeface="Arial"/>
                <a:ea typeface="Arial"/>
              </a:rPr>
              <a:t>Pentru producător salariul reprezintă cheltuieli antrenate de producţia unui bun sau </a:t>
            </a:r>
            <a:r>
              <a:rPr b="0" lang="en-US" sz="1200" spc="-1" strike="noStrike">
                <a:solidFill>
                  <a:srgbClr val="000000"/>
                </a:solidFill>
                <a:latin typeface="Arial"/>
                <a:ea typeface="Arial"/>
              </a:rPr>
              <a:t>unui </a:t>
            </a:r>
            <a:r>
              <a:rPr b="0" lang="ro-RO" sz="1200" spc="-1" strike="noStrike">
                <a:solidFill>
                  <a:srgbClr val="000000"/>
                </a:solidFill>
                <a:latin typeface="Arial"/>
                <a:ea typeface="Arial"/>
              </a:rPr>
              <a:t>serviciu; el este parte din cheltuieli</a:t>
            </a:r>
            <a:r>
              <a:rPr b="0" lang="en-US" sz="1200" spc="-1" strike="noStrike">
                <a:solidFill>
                  <a:srgbClr val="000000"/>
                </a:solidFill>
                <a:latin typeface="Arial"/>
                <a:ea typeface="Arial"/>
              </a:rPr>
              <a:t>le</a:t>
            </a:r>
            <a:r>
              <a:rPr b="0" lang="ro-RO" sz="1200" spc="-1" strike="noStrike">
                <a:solidFill>
                  <a:srgbClr val="000000"/>
                </a:solidFill>
                <a:latin typeface="Arial"/>
                <a:ea typeface="Arial"/>
              </a:rPr>
              <a:t> totale, şi anume un cost salarial. Pentru lucrător, salariul reprezintă un venit.</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şi salariul este un preţ plătit de producător, el trebuie înţeles ca plată pentru serviciile prestate de lucrător şi nu ca preţ al muncii sau al forţei de muncă. Lucrătorul rămâne proprietarul forţei sale de muncă şi după ce s-a angajat. El a încheiat un contract de muncă în care sunt prevăzute obligaţiile de muncă şi condiţiile în care se va achita de aceste obligaţii. În afara timpului de muncă cheltuit în întreprindere, lucrătorul dispune de forţa sa de muncă şi poate să o utilizeze după cum crede de cuviinţă</a:t>
            </a:r>
            <a:r>
              <a:rPr b="0" lang="en-US" sz="1200" spc="-1" strike="noStrike">
                <a:solidFill>
                  <a:srgbClr val="000000"/>
                </a:solidFill>
                <a:latin typeface="Arial"/>
                <a:ea typeface="Arial"/>
              </a:rPr>
              <a:t>: p</a:t>
            </a:r>
            <a:r>
              <a:rPr b="0" lang="ro-RO" sz="1200" spc="-1" strike="noStrike">
                <a:solidFill>
                  <a:srgbClr val="000000"/>
                </a:solidFill>
                <a:latin typeface="Arial"/>
                <a:ea typeface="Arial"/>
              </a:rPr>
              <a:t>oa</a:t>
            </a:r>
            <a:r>
              <a:rPr b="0" lang="en-US" sz="1200" spc="-1" strike="noStrike">
                <a:solidFill>
                  <a:srgbClr val="000000"/>
                </a:solidFill>
                <a:latin typeface="Arial"/>
                <a:ea typeface="Arial"/>
              </a:rPr>
              <a:t>t</a:t>
            </a:r>
            <a:r>
              <a:rPr b="0" lang="ro-RO" sz="1200" spc="-1" strike="noStrike">
                <a:solidFill>
                  <a:srgbClr val="000000"/>
                </a:solidFill>
                <a:latin typeface="Arial"/>
                <a:ea typeface="Arial"/>
              </a:rPr>
              <a:t>e desfăşura munci suplimentare, poate presta muncă la domiciliu etc.</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ea typeface="Arial"/>
              </a:rPr>
              <a:t>Salariul este venitul obţinut prin muncă.</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o formă de venit. El revine posesorului forţei de muncă în schimbul muncii desfăşurate şi permite acestuia să îşi satisfacă trebuinţele şi să ducă o viaţă normală. Salariul reprezintă motivaţia muncii.</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ânia, cea mai mare parte a populaţiei obţine venituri sub formă de salariu (figura din dreapta).</a:t>
            </a:r>
            <a:endParaRPr b="0" lang="en-US" sz="1200" spc="-1" strike="noStrike">
              <a:solidFill>
                <a:srgbClr val="000000"/>
              </a:solidFill>
              <a:latin typeface="Calibri"/>
            </a:endParaRPr>
          </a:p>
          <a:p>
            <a:pPr indent="542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5" name="Content Placeholder 6" descr="comp_i.jpg"/>
          <p:cNvPicPr/>
          <p:nvPr/>
        </p:nvPicPr>
        <p:blipFill>
          <a:blip r:embed="rId1"/>
          <a:stretch/>
        </p:blipFill>
        <p:spPr>
          <a:xfrm>
            <a:off x="5508720" y="1989000"/>
            <a:ext cx="2523960" cy="2524320"/>
          </a:xfrm>
          <a:prstGeom prst="rect">
            <a:avLst/>
          </a:prstGeom>
          <a:ln w="0">
            <a:noFill/>
          </a:ln>
        </p:spPr>
      </p:pic>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erea şi oferta de munc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cererea de muncă este mare, salariile se vor situa la un nivel mai ridicat.</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prinderile vor fi dispuse să plătească salarii mai mari pentru a atrage lucrătorii de care au nevoi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vers, în condiţiile în care cererea de muncă este mică, salariile vor scădea.</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oductivitatea muncii</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 nivelul salariilor şi nivelul productivităţii există o relaţie direct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roductivitatea este mai mare, cu atât şi cererea de muncă este mai mare, iar pe ansamblul economiei se înregistrează o creştere a nivelului salari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reşterea productivităţii permite creşterea salariului real.</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Organizarea în sindicat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ndicatele apără interesele salariale ale lucrăto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le negociază un anumit nivel al salariului minim pe economie, precum şi creşterile salariale impuse de creşterea preţu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uterea sindicatelor este mai mare, cu atât nivelul salariilor va fi mai ridic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Admin</cp:lastModifiedBy>
  <dcterms:modified xsi:type="dcterms:W3CDTF">2010-01-19T07:44:22Z</dcterms:modified>
  <cp:revision>12</cp:revision>
  <dc:subject/>
  <dc:title>SALARIUL</dc:title>
</cp:coreProperties>
</file>