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C533-99ED-4C3B-9E69-195BD7C8F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ECEC-EBD2-4B66-B52D-67FC1650A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924D-302A-4284-B760-3656879FD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B7A4-251E-4F6D-B0D9-776E091C1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DF1D-18A4-4F42-87C8-4C493A770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DDFB-A520-48B7-9B5E-5A2AD5F04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D364-53F3-4C94-9203-CE7A34E3F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8489-EF5C-4FF5-AB51-A92498A23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52A9-C933-4A3C-B969-940BBA441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717B-3BBD-4C97-B9EF-A7BF49F72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85CC-5E0C-497C-94F8-AF36CE21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B251-479C-4B9A-9119-F2802761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A69C1-E09C-4901-85B4-04DC4738A2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LTE ROMANE  REALISTE INTERBEL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352320"/>
            <a:ext cx="6400800" cy="175284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333399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clasa a X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a, Doina Ruşt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" action="ppaction://hlinkshowjump?jump=lastslide"/>
          </p:cNvPr>
          <p:cNvSpPr/>
          <p:nvPr/>
        </p:nvSpPr>
        <p:spPr>
          <a:xfrm>
            <a:off x="3200400" y="129528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5200" y="10800"/>
                </a:moveTo>
                <a:lnTo>
                  <a:pt x="4695" y="17806"/>
                </a:lnTo>
                <a:lnTo>
                  <a:pt x="4695" y="3794"/>
                </a:lnTo>
                <a:close/>
              </a:path>
              <a:path fill="darken" w="23402" h="21600">
                <a:moveTo>
                  <a:pt x="17045" y="3794"/>
                </a:moveTo>
                <a:lnTo>
                  <a:pt x="17045" y="17806"/>
                </a:lnTo>
                <a:lnTo>
                  <a:pt x="18708" y="17806"/>
                </a:lnTo>
                <a:lnTo>
                  <a:pt x="18708" y="3794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Ion (1920):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pământului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i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iubiri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Gorila (1938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Ion (1920):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pământului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i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iubiri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Gorila (1938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600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599480" y="5715000"/>
            <a:ext cx="412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Colegiul </a:t>
            </a: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National</a:t>
            </a: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Andrei</a:t>
            </a: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 Sagu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clona</cp:lastModifiedBy>
  <dcterms:modified xsi:type="dcterms:W3CDTF">2010-04-14T07:58:59Z</dcterms:modified>
  <cp:revision>16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