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4F6-3953-4017-99DA-990C1F06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222-5CBD-4E20-BEBD-97426471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16B-7AA8-4A14-A365-F91D432A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B53-67C2-4891-9ADA-406ADD33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A81-E3FD-48FB-8534-1C1A47AA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95D-7FB5-4AEB-9D62-AF4A3AB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D43-AB60-436C-A888-9512E02A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841-8CDD-4A08-96C1-5A9208B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393-D12D-4E11-B29B-A0F9083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D67-228E-44F7-920C-41C879B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27D-3817-421E-8712-DC82D0B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C3D-7688-4136-90D8-927A708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8A94-03CF-4121-AC3E-E77C5425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br>
              <a:rPr sz="1400"/>
            </a:b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4267080" y="2895480"/>
            <a:ext cx="609840" cy="586080"/>
          </a:xfrm>
          <a:custGeom>
            <a:avLst/>
            <a:gdLst>
              <a:gd name="textAreaLeft" fmla="*/ 37800 w 609840"/>
              <a:gd name="textAreaRight" fmla="*/ 572040 w 6098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2475" h="21600">
                <a:moveTo>
                  <a:pt x="0" y="0"/>
                </a:moveTo>
                <a:lnTo>
                  <a:pt x="22475" y="0"/>
                </a:lnTo>
                <a:lnTo>
                  <a:pt x="22475" y="21600"/>
                </a:lnTo>
                <a:lnTo>
                  <a:pt x="0" y="21600"/>
                </a:lnTo>
                <a:close/>
              </a:path>
              <a:path fill="lightenLess" w="22475" h="21600">
                <a:moveTo>
                  <a:pt x="0" y="0"/>
                </a:moveTo>
                <a:lnTo>
                  <a:pt x="22475" y="0"/>
                </a:lnTo>
                <a:lnTo>
                  <a:pt x="21075" y="1400"/>
                </a:lnTo>
                <a:lnTo>
                  <a:pt x="1400" y="1400"/>
                </a:lnTo>
                <a:close/>
              </a:path>
              <a:path fill="darken" w="22475" h="21600">
                <a:moveTo>
                  <a:pt x="22475" y="0"/>
                </a:moveTo>
                <a:lnTo>
                  <a:pt x="22475" y="21600"/>
                </a:lnTo>
                <a:lnTo>
                  <a:pt x="21075" y="20200"/>
                </a:lnTo>
                <a:lnTo>
                  <a:pt x="21075" y="1400"/>
                </a:lnTo>
                <a:close/>
              </a:path>
              <a:path fill="darkenLess" w="22475" h="21600">
                <a:moveTo>
                  <a:pt x="22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5" y="20200"/>
                </a:lnTo>
                <a:close/>
              </a:path>
              <a:path fill="lighten" w="22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5" h="21600">
                <a:moveTo>
                  <a:pt x="14736" y="10800"/>
                </a:moveTo>
                <a:lnTo>
                  <a:pt x="4231" y="17806"/>
                </a:lnTo>
                <a:lnTo>
                  <a:pt x="4231" y="3794"/>
                </a:lnTo>
                <a:close/>
              </a:path>
              <a:path fill="darken" w="22475" h="21600">
                <a:moveTo>
                  <a:pt x="16582" y="3794"/>
                </a:moveTo>
                <a:lnTo>
                  <a:pt x="16582" y="17806"/>
                </a:lnTo>
                <a:lnTo>
                  <a:pt x="18244" y="17806"/>
                </a:lnTo>
                <a:lnTo>
                  <a:pt x="1824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30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43840" y="5979960"/>
            <a:ext cx="44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Colegiul National "Andrei Saguna"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8:42:53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