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E8B-146E-497A-B20F-47A2DFA1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103-9FAF-439A-9188-97C4B619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FDF-386D-4135-8EFC-60AA38D9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C54-C537-405A-B58A-DEEC3EA0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DB2-4969-459A-B768-A80696AA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884-DADD-4D14-AC1A-57223DAB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64B-B1EF-405D-81CF-34097C76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D34-B11B-4B2C-AD57-A09383DE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0D7F-EB85-4C81-83D6-74CACCC5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83B-B970-49BF-B416-E83F73F6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FDF-381A-4A3B-B45B-700EB0AD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EB4-51BE-46BA-9A8E-BB688D5A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466A-3EEE-46E2-847E-AAF2F69E0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2e33f6"/>
              </a:gs>
              <a:gs pos="50000">
                <a:srgbClr val="ff9933"/>
              </a:gs>
              <a:gs pos="100000">
                <a:srgbClr val="2e33f6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1371600" y="563868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21496" y="10800"/>
                </a:moveTo>
                <a:lnTo>
                  <a:pt x="10991" y="17806"/>
                </a:lnTo>
                <a:lnTo>
                  <a:pt x="10991" y="3794"/>
                </a:lnTo>
                <a:close/>
              </a:path>
              <a:path fill="darken" w="35994" h="21600">
                <a:moveTo>
                  <a:pt x="23341" y="3794"/>
                </a:moveTo>
                <a:lnTo>
                  <a:pt x="23341" y="17806"/>
                </a:lnTo>
                <a:lnTo>
                  <a:pt x="25004" y="17806"/>
                </a:lnTo>
                <a:lnTo>
                  <a:pt x="2500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5257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N. "Andrei Sagun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5T10:17:33Z</dcterms:modified>
  <cp:revision>1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