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AE4-A300-4516-AED9-648EFDEC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D6F-3D33-45DA-9FCE-DB1C2459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7A3-5F46-462F-963B-52BEFE98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0C6-AC5E-4789-A15B-A231E75D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0C4-A0CC-43C7-A1C5-F5AD23D4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37D-20A2-4AFA-A6FD-DD233B6A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190-91FA-4AC0-A1B2-20C335C3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4EE-C775-49E8-8CA5-7E832DA3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7F7-83CE-4275-BEA6-D3A6D7BA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C5F-441D-4AD9-BDEC-3269EE70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BF3-3D9C-4AAE-B2E6-50D0384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BD6-066B-47AD-92DA-E8F8DA2A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7B8B-838D-447F-8AD1-EFAB8AB65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762120" y="10666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12413" y="17806"/>
                </a:lnTo>
                <a:lnTo>
                  <a:pt x="12413" y="3794"/>
                </a:lnTo>
                <a:close/>
              </a:path>
              <a:path fill="darken" w="38839" h="21600">
                <a:moveTo>
                  <a:pt x="24764" y="3794"/>
                </a:moveTo>
                <a:lnTo>
                  <a:pt x="24764" y="17806"/>
                </a:lnTo>
                <a:lnTo>
                  <a:pt x="26426" y="17806"/>
                </a:lnTo>
                <a:lnTo>
                  <a:pt x="2642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05520" y="5562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1:14Z</dcterms:modified>
  <cp:revision>17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