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1226-3E5B-4A34-9F48-361BF6170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97B3-5107-49DC-90BC-05193E41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98D2-AA5B-4503-BE70-7EDB68CED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4496-3C2A-4E83-80FC-AAB05210F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317B-5ECF-40AB-A112-F03EE5B4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3985-DF82-4A14-8B38-2663D7A7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29B8-13E8-4495-BC70-1B2FD796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3234-42FB-4EAC-82A9-3D3BAA89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54D9-4A7D-4766-9D11-2D9A0DA6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AD7B-9344-4597-88DA-6962054A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246F-B8F1-4766-94E3-9A5E10FF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8BB4-CD01-4789-A250-C3067B88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59A5-80F3-4A5A-B5EE-5B47D26BC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livia</cp:lastModifiedBy>
  <dcterms:modified xsi:type="dcterms:W3CDTF">2010-01-18T17:57:13Z</dcterms:modified>
  <cp:revision>15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