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2BE-35B2-416F-AFDD-972428DA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789-748B-413E-A620-06D016FC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1F8-B611-4C5C-B6E6-9817C22A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A60-1785-413B-8C60-2A23B0B5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2F8-9C83-44AE-853B-2CBE204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FE4-0F08-4E5D-9272-5B805123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364-BD30-43A7-8B24-2C22099E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BA0-7844-4734-9128-BFC30954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8A0-5A98-4FF3-A084-B0AD003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F3B-D472-4EFE-8B32-36E0EA5C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934-5DFB-4A12-A6C2-85A29C9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444-80C1-47BE-A440-7686A68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3AE-3E23-41A0-A3BD-D697D7B0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DIUL LIMBAJULUI DE PROGRAMARE STUD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oordonator Mioara Gheorgh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 codificarea algoritmului în limbajul de programare ales, obţinem un program. Programul este transmis calculatorului prin introducerea textului de la tastatură (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edit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memorat într-un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fişier surs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extensi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 limbajul Pascal (exemplu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gram1.cp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sau extensi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 limbajul C/C++ (exemplu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gram1.cp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duce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extului de program din limbajul de programare ales în limbajul intern al calculatorului se face de către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compilato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in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compil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 Compilatorul realizează și verificarea sintactică a programului, semnalând erorile detectate. Corectarea erorilor se face prin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edit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de la tastatură, fiind urmată de o nouă compilare. Când textul programului nu mai conţine nicio eroare, compilatorul generează un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fişier obiec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extensi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exemplu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gram1.obj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 Fişierul obiect este executat prin comanda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oferi programatorilor accesul la fişiere şi la resursele de editare, compilare şi execuţie, au fost dezvoltate 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ediile de program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tele cu care lucrează un program pot fi memorate în fişierele text. Astfel se asigură păstrarea datelor şi reducerea timpului de operare la testarea/utilizarea program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Un fişier tex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format dintr-o succesiune de caractere ASCII scrise pe una sau mai multe linii (rânduri), pe memorie externă (disc). Sfârşitul fişierului este marcat de o etichetă specială: EOF (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). Prelucrarea unui fişier se face prin mai multe operaţii: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deschide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pentru citire sau scriere),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citi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scrie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închide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410080" y="182880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 prop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troduc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mer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n prime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o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n următoare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o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verifice dacă o valoare oarec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ntrodusă de la tastatură, apa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 reuniune dintr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ș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levi lucrează împreună la un proiect pentru ora de istorie. Fiecare s-a documentat şi a întocmit o listă cu cele mai importante evenimente istorice. În proiect, trebuie prezentat o singură dată fiecare eveniment istoric, în ordine cronologic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Întocm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ele două liste cu cel mult 10 evenimente isto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rificaţi dacă cele două liste pot fi intercla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bţineţi lista finală prin interclasarea celor două l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ă se determine dacă un an oarecare, A, aparţine listei de eveni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un program care să rezolve cerinţele de la punctele a,b,c şi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cunosc rezultatele la Olimpiada de informatică pentru trei şcoli. Numărul de participanţi din fiecare şcoală este n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respectiv n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entru obţinerea clasamentului fiecărei şc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rin care să se obţină clasamentul pentru toate şcol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ficienţa algoritmului propu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9:41Z</dcterms:modified>
  <cp:revision>19</cp:revision>
  <dc:subject/>
  <dc:title>MEDIUL LIMBAJULUI DE PROGRAMARE STUDIA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