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A8E-ADEB-4C63-BF21-B79F8ADC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6BA-E547-45D9-ACB0-ECD16293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580-A367-4F49-9211-54E07539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20C-CD1C-4AC9-BC1B-DC2F7A8D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7A0-4F66-44B2-B99A-457C17EE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854-BE27-40BD-A616-223DAD0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4E0-04C6-4CE8-A24D-2DA0A8BE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6FD-7852-46CF-8C40-EEF4A7D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886-2FB5-4A38-9CD1-D25044C5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EC7-1806-40B8-A97A-C1783A4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4BE-3527-4A24-BA16-2EFFC84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5BA-FCF8-46AA-BB83-ABFA069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778-FF41-4874-B41A-A13909A8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4e97da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1752480" y="251460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7537" y="10800"/>
                </a:moveTo>
                <a:lnTo>
                  <a:pt x="7031" y="17806"/>
                </a:lnTo>
                <a:lnTo>
                  <a:pt x="7031" y="3794"/>
                </a:lnTo>
                <a:close/>
              </a:path>
              <a:path fill="darken" w="28076" h="21600">
                <a:moveTo>
                  <a:pt x="19382" y="3794"/>
                </a:moveTo>
                <a:lnTo>
                  <a:pt x="19382" y="17806"/>
                </a:lnTo>
                <a:lnTo>
                  <a:pt x="21044" y="17806"/>
                </a:lnTo>
                <a:lnTo>
                  <a:pt x="2104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5029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01:51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