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EC1F-C148-4382-ACD7-A262DC2EA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0DD6-B795-4D12-B8F5-D27EF2092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D45A-1895-40CE-8351-973F0C5EF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589A-011C-411E-9809-B68227BE2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8BBE-60D1-4BEB-94CF-BD1FC4856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ED15-7B61-4519-AE29-D80D92148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CB53-582A-4D8E-953A-55B8FF771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E6FC-CADE-4D06-B513-00C45D84D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8454-7850-4EC0-9608-ED31917ED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C9AD-5425-425B-93B4-FE75A4A2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C8AA-4498-4C84-B305-57F5D392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20F0-AF20-4880-8564-83300234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D8957-817A-4E35-BB72-7191EDFF7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lasa a X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Ion (1920):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pământ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iubir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Gorila (1938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livia</cp:lastModifiedBy>
  <dcterms:modified xsi:type="dcterms:W3CDTF">2010-01-18T17:57:13Z</dcterms:modified>
  <cp:revision>15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