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E43-73B8-4DB6-993C-C40C004D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882-A023-490C-B0A6-3B7BA1D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E91-87F2-4DC3-A622-C48D6384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44B-EDBD-4E87-AC94-3CED23F9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3B4-14DE-4D20-9EEC-2D8423F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9BF-586D-453E-AA21-73A8F6D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9CA-C46C-4B32-9383-206753D4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64F-BBFF-42D1-B3DD-AF7787D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704-382A-42A4-8B20-3FCC3DF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C44-0B31-411D-9AE1-9667E44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A72-E629-40B8-AC6B-B369B57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400-E739-4A3C-8467-87C100A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23C7-1D9D-4335-9B11-B7EECB1E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7924680" y="60199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14299" y="12950"/>
                </a:moveTo>
                <a:lnTo>
                  <a:pt x="3794" y="19956"/>
                </a:lnTo>
                <a:lnTo>
                  <a:pt x="3794" y="5943"/>
                </a:lnTo>
                <a:close/>
              </a:path>
              <a:path fill="darken" w="21600" h="25900">
                <a:moveTo>
                  <a:pt x="16144" y="5943"/>
                </a:moveTo>
                <a:lnTo>
                  <a:pt x="16144" y="19956"/>
                </a:lnTo>
                <a:lnTo>
                  <a:pt x="17806" y="19956"/>
                </a:lnTo>
                <a:lnTo>
                  <a:pt x="17806" y="59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5181480"/>
            <a:ext cx="42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"Andrei Sagun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8:18Z</dcterms:modified>
  <cp:revision>19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