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0C74-8B19-4575-BD1A-79FC1E5A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C349-3F10-4664-954A-D83DF957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400-1775-4C6A-8054-57CFEF90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7C5F-6D1D-4EC6-80F5-7305178B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912-9334-48D5-9D00-46E9CE0A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F154-0D19-40B3-9A21-B822BA2F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981B-F969-467D-B621-3E3A4A84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EE9-0B4E-4441-952A-058DC3AF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9D3-6367-4852-953E-42D5F0F2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D9DB-D565-4CE5-93DD-BDC9566C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B3B-964D-4681-A6E9-4DBA1D2C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FD4-8254-4C9C-BB70-3435E334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624C-5B3A-4E3E-AB7E-00F757676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4724280" y="4267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47920" y="58672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Arial"/>
              </a:rPr>
              <a:t>Colegiul National "Andrei Saguna" Bras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5T10:57:18Z</dcterms:modified>
  <cp:revision>17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