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D805-CADF-4D76-B1C5-DE979B334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F83B-B4D9-43E5-A6BE-78B455E4C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B3E0-D911-40A0-A102-13230704A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7A8C-EC0E-474D-9115-C81BCB7E1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831A-FFF8-417A-8EB2-11BF1B406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986C-CDF1-4217-A914-9C4C25218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9496-8EB1-46B3-8D06-BCE548244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9D31-CD9C-46FE-B65E-EF9509595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A62F-A35C-4458-894C-1162E2BE5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FE8F-DBC8-4B16-BF8D-D1EA8154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BC5E-662E-4C36-B6FE-A1F7952D7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4A24-7F99-4181-B93E-D89DEDCD5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5FA31-5605-4E2B-B117-965DC769B5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LTE ROMANE  REALISTE INTERBELIC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352320"/>
            <a:ext cx="6400800" cy="175284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0066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clasa a X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a, Doina Ruşt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" action="ppaction://hlinkshowjump?jump=lastslide"/>
          </p:cNvPr>
          <p:cNvSpPr/>
          <p:nvPr/>
        </p:nvSpPr>
        <p:spPr>
          <a:xfrm>
            <a:off x="1143000" y="41911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6100" y="10800"/>
                </a:moveTo>
                <a:lnTo>
                  <a:pt x="5595" y="17806"/>
                </a:lnTo>
                <a:lnTo>
                  <a:pt x="5595" y="3794"/>
                </a:lnTo>
                <a:close/>
              </a:path>
              <a:path fill="darken" w="25203" h="21600">
                <a:moveTo>
                  <a:pt x="17945" y="3794"/>
                </a:moveTo>
                <a:lnTo>
                  <a:pt x="17945" y="17806"/>
                </a:lnTo>
                <a:lnTo>
                  <a:pt x="19608" y="17806"/>
                </a:lnTo>
                <a:lnTo>
                  <a:pt x="19608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Ion (1920):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pământului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i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iubiri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Gorila (1938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Ion (1920):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pământului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i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iubiri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Gorila (1938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600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736640" y="544680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Arial"/>
              </a:rPr>
              <a:t>Colegiul National Andrei Sagu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clona</cp:lastModifiedBy>
  <dcterms:modified xsi:type="dcterms:W3CDTF">2010-04-15T10:25:24Z</dcterms:modified>
  <cp:revision>16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