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E9A-04CB-4CFE-AAFA-08656BD1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DBF-5F5E-449D-96A5-4166B87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8BF-529B-4BF9-84F4-36EEA71A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0B8-AEB0-41D8-B33D-BC28A80B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622-12FA-442D-BB70-BA2C70A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82A-9B72-4C9B-879A-A317C2F8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595-D705-499C-92CC-F921B23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6B6-7B11-4398-801B-67436EA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60D-1177-485D-99CB-4E112FB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88F-8C02-4033-BA3A-BFA093E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B1D-2740-497B-835C-682210C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FBB-F0FC-49B2-B013-74E19D5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B33-4E18-44CC-B0D7-5244FBD56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09480" y="48769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6701" y="10800"/>
                </a:moveTo>
                <a:lnTo>
                  <a:pt x="6196" y="17806"/>
                </a:lnTo>
                <a:lnTo>
                  <a:pt x="6196" y="3794"/>
                </a:lnTo>
                <a:close/>
              </a:path>
              <a:path fill="darken" w="26405" h="21600">
                <a:moveTo>
                  <a:pt x="18547" y="3794"/>
                </a:moveTo>
                <a:lnTo>
                  <a:pt x="18547" y="17806"/>
                </a:lnTo>
                <a:lnTo>
                  <a:pt x="20209" y="17806"/>
                </a:lnTo>
                <a:lnTo>
                  <a:pt x="202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34560" y="4761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tional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9:0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