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DD1-1217-42DC-9D90-E2358F53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79A4-C5D5-4AE6-AFB0-FE71892C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1E6-DA2F-4348-8143-BB4E31F9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802-D72B-4869-8644-3740B77A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F26-F077-4C81-B968-E3CCC54C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678-4850-4135-A719-A28D6C80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836-2AE1-4E52-A9D6-62F1580B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6A6-24E0-4002-9390-D266B7A9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369-090E-48F4-A8E0-5FB68351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665-271B-45D2-AA2B-C9D692EC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BDA-667C-4039-B8D6-A58B1D1A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1F6-F0A6-4D24-A0D3-B16BC4D9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9025-674C-4815-8B44-9E21F82CC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0adbe0"/>
              </a:gs>
              <a:gs pos="100000">
                <a:srgbClr val="ec6d0e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609480" y="1447920"/>
            <a:ext cx="1447920" cy="14475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5" h="21600">
                <a:moveTo>
                  <a:pt x="14302" y="10800"/>
                </a:moveTo>
                <a:lnTo>
                  <a:pt x="3796" y="17806"/>
                </a:lnTo>
                <a:lnTo>
                  <a:pt x="3796" y="3794"/>
                </a:lnTo>
                <a:close/>
              </a:path>
              <a:path fill="darken" w="21605" h="21600">
                <a:moveTo>
                  <a:pt x="16147" y="3794"/>
                </a:moveTo>
                <a:lnTo>
                  <a:pt x="16147" y="17806"/>
                </a:lnTo>
                <a:lnTo>
                  <a:pt x="17809" y="17806"/>
                </a:lnTo>
                <a:lnTo>
                  <a:pt x="178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1522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882"/>
                </a:solidFill>
                <a:latin typeface="Arial"/>
              </a:rPr>
              <a:t>Colegiul Na</a:t>
            </a:r>
            <a:r>
              <a:rPr b="0" lang="ro-RO" sz="1800" spc="-1" strike="noStrike">
                <a:solidFill>
                  <a:srgbClr val="7f0882"/>
                </a:solidFill>
                <a:latin typeface="Arial"/>
              </a:rPr>
              <a:t>ţional </a:t>
            </a:r>
            <a:r>
              <a:rPr b="0" lang="en-US" sz="1800" spc="-1" strike="noStrike">
                <a:solidFill>
                  <a:srgbClr val="7f0882"/>
                </a:solidFill>
                <a:latin typeface="Arial"/>
              </a:rPr>
              <a:t>"</a:t>
            </a:r>
            <a:r>
              <a:rPr b="0" lang="ro-RO" sz="1800" spc="-1" strike="noStrike">
                <a:solidFill>
                  <a:srgbClr val="7f0882"/>
                </a:solidFill>
                <a:latin typeface="Arial"/>
              </a:rPr>
              <a:t>Andrei Şaguna</a:t>
            </a:r>
            <a:r>
              <a:rPr b="0" lang="en-US" sz="1800" spc="-1" strike="noStrike">
                <a:solidFill>
                  <a:srgbClr val="7f0882"/>
                </a:solidFill>
                <a:latin typeface="Arial"/>
              </a:rPr>
              <a:t>"</a:t>
            </a:r>
            <a:r>
              <a:rPr b="0" lang="ro-RO" sz="1800" spc="-1" strike="noStrike">
                <a:solidFill>
                  <a:srgbClr val="7f0882"/>
                </a:solidFill>
                <a:latin typeface="Arial"/>
              </a:rPr>
              <a:t>, Braş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09:13:11Z</dcterms:modified>
  <cp:revision>20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