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1BF0-360B-4CC1-A582-B8B865776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39AE-FCAA-4471-B3A2-77A38805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6748-1F66-43E5-AD6E-D1E054EA4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9EB8-B44E-47FD-B990-65B4396F0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81C3-5F74-4137-ABE6-AB9F0DA4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CB34-58AD-496B-9D83-0F281061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C0B4-EB51-4175-AEF3-024D0B6E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6A18-F5E6-4149-B1A3-C7F9A145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7B1E-99A3-453A-A8B5-B1878FB3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4C1F-D231-45CC-B09E-97F256ED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925D-C8A8-4942-9BC5-21EB24AF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AC1B-A4AA-4C67-A34F-EB89F16B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F5CF-F894-45D8-8DE5-0FAD977AA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0099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6400800" y="60948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21496" y="10800"/>
                </a:moveTo>
                <a:lnTo>
                  <a:pt x="10991" y="17806"/>
                </a:lnTo>
                <a:lnTo>
                  <a:pt x="10991" y="3794"/>
                </a:lnTo>
                <a:close/>
              </a:path>
              <a:path fill="darken" w="35994" h="21600">
                <a:moveTo>
                  <a:pt x="23341" y="3794"/>
                </a:moveTo>
                <a:lnTo>
                  <a:pt x="23341" y="17806"/>
                </a:lnTo>
                <a:lnTo>
                  <a:pt x="25004" y="17806"/>
                </a:lnTo>
                <a:lnTo>
                  <a:pt x="25004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419720" y="5410080"/>
            <a:ext cx="449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76920" y="541008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18080" y="5370480"/>
            <a:ext cx="42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legiul National Andrei Sag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5T10:28:52Z</dcterms:modified>
  <cp:revision>16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