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5A5-00AE-4BE0-9F46-3C53870F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C05-FF30-4BCC-A145-BA68338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F4B-F1AE-422B-8591-308F5D3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61B-164F-4FFE-94E9-8C125785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C51-A815-43F9-95F2-E96FAE7F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B3E-77B5-4836-A19D-4ACF95F2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E92-8A06-4A23-91FC-468B2E15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7B1-75FF-470D-8318-CEF749F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BE3-1C7F-41AB-912D-7048ED4D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159-6D86-4C0F-A57A-FE5A151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492-E8D3-4705-A759-B875E84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58D-A41B-4AC8-8E2A-C061AB9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B0A-52DC-4D13-BFE4-E95166764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733920"/>
            <a:ext cx="6400800" cy="1752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5410080" y="4038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27760" y="5181480"/>
            <a:ext cx="2301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Colegiul National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22:22Z</dcterms:modified>
  <cp:revision>16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