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5C9-2D85-433A-8577-D6632800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AF6-5AB1-4DEA-B3BB-B65281BA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736-10CF-4C57-AC61-1C0D051C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416-432C-4400-A582-1D6855DD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52E-058E-428F-B4E7-DF757F9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8F1-C699-436A-BA8B-6C7B024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00F-6409-4F01-ADF2-F57E01A3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07-25AE-43F8-8871-77E5C6D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9EE-525A-4402-AED4-1DE9FC15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F60-9678-4334-A296-98336E7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0FE-F210-4CF8-AFB9-9CB1392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439-1388-4ADA-9D6B-EE10216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E3F-FB8E-4AC2-B9BE-82CE2193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402-DCA6-4157-AA35-83CA498C825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B197322-7237-498B-9A9D-134993DF6770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16:1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ompetente</cp:lastModifiedBy>
  <dcterms:modified xsi:type="dcterms:W3CDTF">2010-05-06T10:23:22Z</dcterms:modified>
  <cp:revision>3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