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6329-7F31-49F0-A82D-34B5CCE1F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5238-D165-4A93-AC59-74B6119D5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6A72-3906-41FB-9D13-CBD8DB6DC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4AF6-FCE0-49DC-8E58-B1B2C90B1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1151-CC14-4FE0-991F-88495118E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32E3-BD96-4407-A89A-31F83CE81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9AAB-B2AB-44C7-8CDF-5D24F009D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1C3E-5CD0-4A36-B88F-DD777A271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A807-F632-4F73-805B-58EFB0D69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5327-6D45-4899-B5D8-59D3A5DF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6946-BFF9-49C8-BCC4-F64AB4A3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F419-214C-464B-895B-48899913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40942-1A5A-4E58-AA7A-6170D0FD9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352320"/>
            <a:ext cx="6400800" cy="17528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ff9900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lasa a X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lastslide"/>
          </p:cNvPr>
          <p:cNvSpPr/>
          <p:nvPr/>
        </p:nvSpPr>
        <p:spPr>
          <a:xfrm>
            <a:off x="6248520" y="457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14299" y="10813"/>
                </a:moveTo>
                <a:lnTo>
                  <a:pt x="3794" y="17819"/>
                </a:lnTo>
                <a:lnTo>
                  <a:pt x="3794" y="3806"/>
                </a:lnTo>
                <a:close/>
              </a:path>
              <a:path fill="darken" w="21600" h="21626">
                <a:moveTo>
                  <a:pt x="16144" y="3806"/>
                </a:moveTo>
                <a:lnTo>
                  <a:pt x="16144" y="17819"/>
                </a:lnTo>
                <a:lnTo>
                  <a:pt x="17806" y="17819"/>
                </a:lnTo>
                <a:lnTo>
                  <a:pt x="17806" y="3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Ion (1920):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pământ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iubir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Gorila (1938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Ion (1920):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pământ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iubir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Gorila (1938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600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62120" y="50292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Colegiul National "Andrei Saguna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clona</cp:lastModifiedBy>
  <dcterms:modified xsi:type="dcterms:W3CDTF">2010-04-15T10:59:31Z</dcterms:modified>
  <cp:revision>17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