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6C27-6A56-417B-AC9B-EB30EBE24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F798-B298-46D4-BFF7-FF7CFAC9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2ED1-6DD1-44EF-B2F1-558C73140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C8B7-7661-4A50-86F4-C432E992A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4787-8111-45AB-B537-A6CF13E5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BBC5-537A-425E-90CB-EF6ACED4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F169-C72A-4E5A-91C7-051460B2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B36E-CE72-455E-8301-54CC16E8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2BC9-FFA2-4B58-996B-C7FFFD41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015C-61A5-4612-A565-1216BF27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5579-5699-400B-B8AE-66EF7587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D9AF-F042-47DC-BA9C-9F780E84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B192-80B2-4B24-BD12-38BE1008A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0" y="3886200"/>
            <a:ext cx="6400800" cy="17524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a9a9f5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psihologie, 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lena Lupşa, Victor Brat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609480" y="990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Last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34120" y="5562720"/>
            <a:ext cx="236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collegial national andrei sag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4T08:19:16Z</dcterms:modified>
  <cp:revision>16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