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737A-70EA-4FD3-BAF3-7DE47BCD5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7737-81A5-4F8D-A515-B07DBFEA1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9CEC-E0C3-40D9-AC21-F206D64B2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18F7-7E97-4D8F-9F6F-CB878F2E6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CEB4-B687-4EB4-BDAD-B461E7A63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20C8-3B7B-4D93-A3EC-852269311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230D-01E7-4BD7-96FF-3AAE1AE4F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08BF-7B04-41B6-90C0-3D1D79A30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7A8E-D686-446B-B90D-61538E6F6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E2C8-5F89-4D96-B26B-A8D67C03B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BB05-0BAA-4788-9E10-C8B33B9BA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A6CD-D325-40F5-A748-2E6D45393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AB433-BB54-421D-AB88-31774B3FB6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PROCESE PSIHICE COGNITIVE SUPERIOAR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GÂNDIREA</a:t>
            </a: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3399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psihologie, clasa a X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Elena Lupşa, Victor Bratu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" action="ppaction://hlinkshowjump?jump=lastslide"/>
          </p:cNvPr>
          <p:cNvSpPr/>
          <p:nvPr/>
        </p:nvSpPr>
        <p:spPr>
          <a:xfrm>
            <a:off x="380880" y="52578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14303" y="10800"/>
                </a:moveTo>
                <a:lnTo>
                  <a:pt x="3797" y="17806"/>
                </a:lnTo>
                <a:lnTo>
                  <a:pt x="3797" y="3794"/>
                </a:lnTo>
                <a:close/>
              </a:path>
              <a:path fill="darken" w="21607" h="21600">
                <a:moveTo>
                  <a:pt x="16148" y="3794"/>
                </a:moveTo>
                <a:lnTo>
                  <a:pt x="16148" y="17806"/>
                </a:lnTo>
                <a:lnTo>
                  <a:pt x="17810" y="17806"/>
                </a:lnTo>
                <a:lnTo>
                  <a:pt x="17810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ivelul cel mai înalt de prelucrare şi integrare a informaţiei despre lumea externă şi despre noi înşine. Prin ea se realizează saltul calitativ al activităţii de cunoaştere de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a particular, accidental la general, esenţial, necesar, de la simpla constatare a obiectului la interpretarea şi explicare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i legic-cauzal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procesul psihic de reflectare mijlocită şi generalizat-abstractă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sub forma noţiunilor, judecăţilor şi raţionamentelor - a însuşirilor comune, esenţiale şi necesare ale obiectelor şi a relaţiilor legice, cauzale dintre e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mijlocit al gândirii constă în aceea că ea nu operează direct asupra realităţii, ci asupra informaţiei furnizate de percepţii şi de reprezentări. Desfăşurarea ei presupune totdeauna fie o informaţie care se extrage, în prezent, în cadrul contactului senzorial cu obiectul, fie o informaţie extrasă din tezaurul memor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general-abstract al gândirii rezultă din aceea că ea se desfăşoară permanent în direcţia evidenţierii însuşirilor generale şi esenţiale ale obiectelor şi fenomenelor şi a subordonării unor modele ideale generale (noţiuni, principii, legi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capacitatea de a rezolva probleme. În această accepţiune, gândirea se apropie de inteligenţă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029200" y="1676520"/>
            <a:ext cx="329580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ivelul cel mai înalt de prelucrare şi integrare a informaţiei despre lumea externă şi despre noi înşine. Prin ea se realizează saltul calitativ al activităţii de cunoaştere de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a particular, accidental la general, esenţial, necesar, de la simpla constatare a obiectului la interpretarea şi explicare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i legic-cauzal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procesul psihic de reflectare mijlocită şi generalizat-abstractă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sub forma noţiunilor, judecăţilor şi raţionamentelor - a însuşirilor comune, esenţiale şi necesare ale obiectelor şi a relaţiilor legice, cauzale dintre e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mijlocit al gândirii constă în aceea că ea nu operează direct asupra realităţii, ci asupra informaţiei furnizate de percepţii şi de reprezentări. Desfăşurarea ei presupune totdeauna fie o informaţie care se extrage, în prezent, în cadrul contactului senzorial cu obiectul, fie o informaţie extrasă din tezaurul memor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general-abstract al gândirii rezultă din aceea că ea se desfăşoară permanent în direcţia evidenţierii însuşirilor generale şi esenţiale ale obiectelor şi fenomenelor şi a subordonării unor modele ideale generale (noţiuni, principii, legi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capacitatea de a rezolva probleme. În această accepţiune, gândirea se apropie de inteligenţă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029200" y="1676520"/>
            <a:ext cx="3295800" cy="31906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5800" y="59436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Arial"/>
              </a:rPr>
              <a:t>Colegiul National Andrei Sagu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sihologul american, J. P. Guilford, a propus un model larg acceptat al structurii gândirii, format din trei componen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Operaţ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valua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con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di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emori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gniţie sa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unoaşt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onţinutu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portamenta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mantic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mbolic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igur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Prod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nităţ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las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laţi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stem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nsformăr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mplicaţ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clona</cp:lastModifiedBy>
  <dcterms:modified xsi:type="dcterms:W3CDTF">2010-04-14T07:58:17Z</dcterms:modified>
  <cp:revision>19</cp:revision>
  <dc:subject/>
  <dc:title>PROCESE PSIHICE COGNITIVE SUPERIOARE - GÂNDIREA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