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6D3-2C56-4A6F-A66C-12BBD939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970-F01C-4D16-A302-02D0355C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425-FF2D-41A8-BA9E-AA1613F9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889-B930-4802-AC67-60971E18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22CB-96CD-4AE0-9F52-EA2CE2F7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9DBE-0BAF-4044-98CA-F9802989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78A3-CBF5-4025-BF84-633E3A2E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CBC8-D5A6-4D2E-9873-24388A2B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4561-E31A-42D6-86A9-01F96D8C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8FFF-FC4A-464F-9C2F-B9EEA7E4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1241-FC1D-4FD4-BA35-A26E910C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7FA-ABCF-4181-9471-CD7CEAED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AF95-FB72-4FFE-8D11-6873467D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BC15-2BA9-41BB-A4EF-50C2A409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0DA6-03AD-48DF-9048-060EB9A0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02D6-7F2F-4CC6-BF15-71CB3950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BEE5-5023-479D-8CAD-B1E3CB7C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46F-1628-417A-882C-A1F32D60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398-5600-4BC4-A2A9-0275350D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095-4571-41EB-B667-2C32F3E6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D1B-4F43-4B67-BB2D-305A3E3D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425-42DE-4201-ADDD-3BF4A93C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65C-89A0-434E-9648-5F42A67C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79D-539C-4C11-BC68-4AB9501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77C2-D3FD-412C-967C-0A0C84789C1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9948-6A12-42B7-BD50-27CD1C46B4B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sfătuirea inspectorilor educativi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09.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2520" y="175248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00"/>
                </a:solidFill>
                <a:latin typeface="Arial"/>
              </a:rPr>
              <a:t>Obiective MEC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ro-RO" sz="2400" spc="-1" strike="noStrike">
                <a:solidFill>
                  <a:srgbClr val="cc0000"/>
                </a:solidFill>
                <a:latin typeface="Arial"/>
              </a:rPr>
              <a:t> 200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1" lang="ro-RO" sz="2400" spc="-1" strike="noStrike">
                <a:solidFill>
                  <a:srgbClr val="cc0000"/>
                </a:solidFill>
                <a:latin typeface="Arial"/>
              </a:rPr>
              <a:t>-200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i="1" lang="ro-RO" sz="2400" spc="-1" strike="noStrike">
                <a:solidFill>
                  <a:srgbClr val="ff9933"/>
                </a:solidFill>
                <a:latin typeface="Arial"/>
              </a:rPr>
              <a:t>. Descentralizar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a.  prin transfer de: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responsabilitate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autoritate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resurse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b. pe 4 domenii: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curriculum (TC+CDS)manuale 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resurse umane 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administrare şi conducere </a:t>
            </a:r>
            <a:r>
              <a:rPr b="1" lang="ro-RO" sz="1000" spc="-1" strike="noStrike">
                <a:solidFill>
                  <a:srgbClr val="292929"/>
                </a:solidFill>
                <a:latin typeface="Arial"/>
              </a:rPr>
              <a:t>(conduce CA: 1/3 beneficiari: elevi, părinţi 1/3 c.d şc., 1/3 consiliul local, dir. este membru)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finanţare – buget local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80773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sfătuirea inspectorilor educ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100" spc="-1" strike="noStrike">
                <a:solidFill>
                  <a:srgbClr val="ff9933"/>
                </a:solidFill>
                <a:latin typeface="Arial"/>
              </a:rPr>
              <a:t>2. Asigurarea calităţii în învăţământ (OG)</a:t>
            </a:r>
            <a:endParaRPr b="0" lang="en-US" sz="31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700" spc="-1" strike="noStrike">
                <a:solidFill>
                  <a:srgbClr val="292929"/>
                </a:solidFill>
                <a:latin typeface="Arial"/>
              </a:rPr>
              <a:t>- comisie de asigurare a calităţii în fiecare u.ş. (c.d., personal din afara şcolii)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700" spc="-1" strike="noStrike">
                <a:solidFill>
                  <a:srgbClr val="292929"/>
                </a:solidFill>
                <a:latin typeface="Arial"/>
              </a:rPr>
              <a:t>- Legea Calităţii – ANCIP – subordonare MEC</a:t>
            </a: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1" lang="ro-RO" sz="2700" spc="-1" strike="noStrike">
                <a:solidFill>
                  <a:srgbClr val="292929"/>
                </a:solidFill>
                <a:latin typeface="Arial"/>
              </a:rPr>
              <a:t> : 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292929"/>
                </a:solidFill>
                <a:latin typeface="Arial"/>
              </a:rPr>
              <a:t>preşedinte, vicepreşedint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292929"/>
                </a:solidFill>
                <a:latin typeface="Arial"/>
              </a:rPr>
              <a:t>2 departamente: acreditare şi asigurarea calităţii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100" spc="-1" strike="noStrike">
                <a:solidFill>
                  <a:srgbClr val="ff9933"/>
                </a:solidFill>
                <a:latin typeface="Arial"/>
              </a:rPr>
              <a:t>3. Sistemul Educaţional Informatizat SEI</a:t>
            </a:r>
            <a:endParaRPr b="0" lang="en-US" sz="31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292929"/>
                </a:solidFill>
                <a:latin typeface="Arial"/>
              </a:rPr>
              <a:t>până în 2009 se vor conecta la Internet toate şcolile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sfătuirea inspectorilor educ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16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9933"/>
                </a:solidFill>
                <a:latin typeface="Arial"/>
              </a:rPr>
              <a:t>Dirigenţie/ consiliere şi orientare 2005-2006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Programă dirigenţie OMEdC – Repere ale activităţii educative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cls. V-VIII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X,XI,XII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Programă consiliere şi orientare: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cls. IX – OMEdC 3458/9.03.2004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cls. IX, X . SAM – OMEdC 3552/8.04.2004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9933"/>
                </a:solidFill>
                <a:latin typeface="Arial"/>
              </a:rPr>
              <a:t>Dirigenţie/ consiliere şi orientare 2006-2007</a:t>
            </a:r>
            <a:r>
              <a:rPr b="0" lang="en-US" sz="2500" spc="-1" strike="noStrike">
                <a:solidFill>
                  <a:srgbClr val="ff9933"/>
                </a:solidFill>
                <a:latin typeface="Arial"/>
              </a:rPr>
              <a:t>/ 2007-2008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cls. I-IV, V-VIII OMECT nr. 5286/9.10.2006 / site MEdC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cls.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IX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-XII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OMECT nr. 5287/9.10.2006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- programe de consiliere şi orientare (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site-ul MEC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- OMECT nr. 5288/9.10.2006 – privind modalitatea de aplicare a programelor  scolare pentru aria curriculara “consiliere si orientare” in cadrul activitatii educativ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97000" y="127080"/>
            <a:ext cx="688968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sfătuirea inspectorilor educativ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845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ff9933"/>
                </a:solidFill>
                <a:latin typeface="Arial"/>
              </a:rPr>
              <a:t>ROFÎP</a:t>
            </a:r>
            <a:r>
              <a:rPr b="1" lang="ro-RO" sz="1500" spc="-1" strike="noStrike">
                <a:solidFill>
                  <a:srgbClr val="ff9933"/>
                </a:solidFill>
                <a:latin typeface="Arial"/>
              </a:rPr>
              <a:t>  - </a:t>
            </a:r>
            <a:r>
              <a:rPr b="1" lang="ro-RO" sz="1500" spc="-1" strike="noStrike">
                <a:solidFill>
                  <a:srgbClr val="999933"/>
                </a:solidFill>
                <a:latin typeface="Arial"/>
              </a:rPr>
              <a:t>Director educativ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292929"/>
                </a:solidFill>
                <a:latin typeface="Arial"/>
              </a:rPr>
              <a:t>Secţiunea a II - a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292929"/>
                </a:solidFill>
                <a:latin typeface="Arial"/>
              </a:rPr>
              <a:t>Art. 19. Directorul şcolii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292929"/>
                </a:solidFill>
                <a:latin typeface="Arial"/>
              </a:rPr>
              <a:t>f) numeşte învăţătorii / diriginţii la clase şi coordonatorul pentru proiecte şi programe educative şcolare şi extraşcolare, </a:t>
            </a:r>
            <a:r>
              <a:rPr b="0" lang="es-ES" sz="1700" spc="-1" strike="noStrike">
                <a:solidFill>
                  <a:srgbClr val="cc0000"/>
                </a:solidFill>
                <a:latin typeface="Arial"/>
              </a:rPr>
              <a:t>care este şi seful comisiei diriginţilor (propunere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292929"/>
                </a:solidFill>
                <a:latin typeface="Arial"/>
              </a:rPr>
              <a:t>Art.26. </a:t>
            </a:r>
            <a:r>
              <a:rPr b="0" lang="es-ES" sz="1700" spc="-1" strike="noStrike">
                <a:solidFill>
                  <a:srgbClr val="292929"/>
                </a:solidFill>
                <a:latin typeface="Arial"/>
              </a:rPr>
              <a:t>(1) Directorul adjunct </a:t>
            </a:r>
            <a:r>
              <a:rPr b="0" lang="es-ES" sz="1700" spc="-1" strike="noStrike">
                <a:solidFill>
                  <a:srgbClr val="cc0000"/>
                </a:solidFill>
                <a:latin typeface="Arial"/>
              </a:rPr>
              <a:t>răspunde de activitatea educativă şcolară şi extraşcolară din unitatea de învăţământ (propunere),</a:t>
            </a:r>
            <a:r>
              <a:rPr b="0" lang="es-ES" sz="1700" spc="-1" strike="noStrike">
                <a:solidFill>
                  <a:srgbClr val="292929"/>
                </a:solidFill>
                <a:latin typeface="Arial"/>
              </a:rPr>
              <a:t> îndeplineşte atribuţiile delegate de către director pe perioade determinate, precum şi pe cele stabilite prin regulamentul intern al unităţii de învăţământ si preia toateprerogativele in lipsa acestuia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292929"/>
                </a:solidFill>
                <a:latin typeface="Arial"/>
              </a:rPr>
              <a:t>(2) În unităţile de învăţământ gimnazial, liceal şi şcoli de arte şi meserii, </a:t>
            </a:r>
            <a:r>
              <a:rPr b="0" lang="es-ES" sz="1700" spc="-1" strike="noStrike">
                <a:solidFill>
                  <a:srgbClr val="cc0000"/>
                </a:solidFill>
                <a:latin typeface="Arial"/>
              </a:rPr>
              <a:t>directorul adjunct </a:t>
            </a:r>
            <a:r>
              <a:rPr b="0" lang="ro-RO" sz="1700" spc="-1" strike="noStrike">
                <a:solidFill>
                  <a:srgbClr val="cc0000"/>
                </a:solidFill>
                <a:latin typeface="Arial"/>
              </a:rPr>
              <a:t>răspunde de </a:t>
            </a:r>
            <a:r>
              <a:rPr b="0" lang="es-ES" sz="1700" spc="-1" strike="noStrike">
                <a:solidFill>
                  <a:srgbClr val="cc0000"/>
                </a:solidFill>
                <a:latin typeface="Arial"/>
              </a:rPr>
              <a:t>activitatea  coordonatorului pentru proiecte şi programe educative şcolare şi extraşcolare</a:t>
            </a:r>
            <a:r>
              <a:rPr b="0" lang="ro-RO" sz="1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cc0000"/>
                </a:solidFill>
                <a:latin typeface="Arial"/>
              </a:rPr>
              <a:t>(propunere). 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999933"/>
                </a:solidFill>
                <a:latin typeface="Arial"/>
              </a:rPr>
              <a:t>Comisie metodică/diriginte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999933"/>
                </a:solidFill>
                <a:latin typeface="Arial"/>
              </a:rPr>
              <a:t>Comitetul de părinţi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9933"/>
                </a:solidFill>
                <a:latin typeface="Arial"/>
              </a:rPr>
              <a:t>Consiliul elevilor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sfătuirea inspectorilor educ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MECT nr. 4100/26.05.2006 – Regulamentul de organizare si functionare a PC/C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sfătuirea inspectorilor educ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590920"/>
            <a:ext cx="1752480" cy="1523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Verdana"/>
              </a:rPr>
              <a:t>Unit. Ş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Dir. educativ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Şef comisie metodic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Diriginţ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Elev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Părinţ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2590920"/>
            <a:ext cx="1676520" cy="1447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292929"/>
                </a:solidFill>
                <a:latin typeface="Verdana"/>
              </a:rPr>
              <a:t>Insp. edu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4114800"/>
            <a:ext cx="838080" cy="8380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14840" y="3962160"/>
            <a:ext cx="685800" cy="114300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25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Verdana"/>
              </a:rPr>
              <a:t>Calita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5257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Verdana"/>
              </a:rPr>
              <a:t>Calita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057400"/>
            <a:ext cx="0" cy="4572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057400"/>
            <a:ext cx="2971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2971800"/>
            <a:ext cx="10666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92929"/>
                </a:solidFill>
                <a:latin typeface="Verdana"/>
              </a:rPr>
              <a:t>Directori pal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cluburi ale copiil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3505320"/>
            <a:ext cx="1447920" cy="3070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92929"/>
                </a:solidFill>
                <a:latin typeface="Verdana"/>
              </a:rPr>
              <a:t>Activ. de cerc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800600"/>
            <a:ext cx="243828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87692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Activ. extracurriculare şi extraşcola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6095880"/>
            <a:ext cx="144792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60958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Comunitate local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3" idx="4"/>
            <a:endCxn id="114" idx="1"/>
          </p:cNvCxnSpPr>
          <p:nvPr/>
        </p:nvCxnSpPr>
        <p:spPr>
          <a:xfrm flipH="1" rot="16200000">
            <a:off x="3379680" y="3972600"/>
            <a:ext cx="797760" cy="1081800"/>
          </a:xfrm>
          <a:prstGeom prst="curvedConnector5">
            <a:avLst>
              <a:gd name="adj1" fmla="val 43024"/>
              <a:gd name="adj2" fmla="val 50000"/>
              <a:gd name="adj3" fmla="val 43024"/>
            </a:avLst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19" name=""/>
          <p:cNvCxnSpPr>
            <a:stCxn id="104" idx="4"/>
            <a:endCxn id="114" idx="7"/>
          </p:cNvCxnSpPr>
          <p:nvPr/>
        </p:nvCxnSpPr>
        <p:spPr>
          <a:xfrm rot="5400000">
            <a:off x="6051600" y="4029840"/>
            <a:ext cx="874080" cy="891360"/>
          </a:xfrm>
          <a:prstGeom prst="curvedConnector5">
            <a:avLst>
              <a:gd name="adj1" fmla="val 43634"/>
              <a:gd name="adj2" fmla="val 49979"/>
              <a:gd name="adj3" fmla="val 43634"/>
            </a:avLst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120" name=""/>
          <p:cNvCxnSpPr>
            <a:stCxn id="103" idx="4"/>
          </p:cNvCxnSpPr>
          <p:nvPr/>
        </p:nvCxnSpPr>
        <p:spPr>
          <a:xfrm flipH="1" rot="16200000">
            <a:off x="2685240" y="4667040"/>
            <a:ext cx="2286720" cy="1181880"/>
          </a:xfrm>
          <a:prstGeom prst="bentConnector3">
            <a:avLst>
              <a:gd name="adj1" fmla="val 70681"/>
            </a:avLst>
          </a:prstGeom>
          <a:ln w="936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04" idx="4"/>
          </p:cNvCxnSpPr>
          <p:nvPr/>
        </p:nvCxnSpPr>
        <p:spPr>
          <a:xfrm rot="5400000">
            <a:off x="5333400" y="4876560"/>
            <a:ext cx="2439000" cy="762840"/>
          </a:xfrm>
          <a:prstGeom prst="bentConnector3">
            <a:avLst>
              <a:gd name="adj1" fmla="val 72527"/>
            </a:avLst>
          </a:prstGeom>
          <a:ln w="936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flipV="1">
            <a:off x="5181480" y="5562360"/>
            <a:ext cx="0" cy="5331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429000"/>
            <a:ext cx="1828800" cy="0"/>
          </a:xfrm>
          <a:prstGeom prst="line">
            <a:avLst/>
          </a:prstGeom>
          <a:ln w="381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4114800"/>
            <a:ext cx="2057400" cy="685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41148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Proiecte programe educative N., In. parteneri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sfătuirea inspectoril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vi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09.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999933"/>
                </a:solidFill>
                <a:latin typeface="Arial"/>
              </a:rPr>
              <a:t>Succes!</a:t>
            </a:r>
            <a:endParaRPr b="0" lang="en-US" sz="3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0:13:07Z</dcterms:created>
  <dc:creator> Calugaru</dc:creator>
  <dc:description/>
  <dc:language>en-US</dc:language>
  <cp:lastModifiedBy> Calugaru</cp:lastModifiedBy>
  <dcterms:modified xsi:type="dcterms:W3CDTF">2007-09-10T08:26:00Z</dcterms:modified>
  <cp:revision>12</cp:revision>
  <dc:subject/>
  <dc:title>Consfătuirea inspectorilor educativi şi a directorilor de palate 7-8.09 - Azuga</dc:title>
</cp:coreProperties>
</file>