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E17-4299-4E47-89D7-DD86A10C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F2F-A20D-417D-8FE6-58F722F8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C43-52C1-4F16-B527-B821078B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6AC-3184-492A-9379-1A0CA264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DDD-EBAC-43E8-BFD4-3CD7B457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F12-5F97-4E5B-866C-DFCE1140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EA2-35C4-405E-AA8C-F8DEB5BE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10C-F60E-45BF-AAE6-8C70A370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7C0-D79F-45EA-AC7B-372F8B3C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DBF-0F41-44E5-8BB6-1BCC96CB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CB3-61DF-462B-8C08-46DE810E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195-FFC0-4C97-992C-6387F3EE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A723-AD4E-4F2A-AC9E-F7F57B464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251cd6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1219320" y="1066680"/>
            <a:ext cx="1752480" cy="144792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6142" h="21600">
                <a:moveTo>
                  <a:pt x="0" y="0"/>
                </a:moveTo>
                <a:lnTo>
                  <a:pt x="26142" y="0"/>
                </a:lnTo>
                <a:lnTo>
                  <a:pt x="26142" y="21600"/>
                </a:lnTo>
                <a:lnTo>
                  <a:pt x="0" y="21600"/>
                </a:lnTo>
                <a:close/>
              </a:path>
              <a:path fill="lightenLess" w="26142" h="21600">
                <a:moveTo>
                  <a:pt x="0" y="0"/>
                </a:moveTo>
                <a:lnTo>
                  <a:pt x="26142" y="0"/>
                </a:lnTo>
                <a:lnTo>
                  <a:pt x="24742" y="1400"/>
                </a:lnTo>
                <a:lnTo>
                  <a:pt x="1400" y="1400"/>
                </a:lnTo>
                <a:close/>
              </a:path>
              <a:path fill="darken" w="26142" h="21600">
                <a:moveTo>
                  <a:pt x="26142" y="0"/>
                </a:moveTo>
                <a:lnTo>
                  <a:pt x="26142" y="21600"/>
                </a:lnTo>
                <a:lnTo>
                  <a:pt x="24742" y="20200"/>
                </a:lnTo>
                <a:lnTo>
                  <a:pt x="24742" y="1400"/>
                </a:lnTo>
                <a:close/>
              </a:path>
              <a:path fill="darkenLess" w="26142" h="21600">
                <a:moveTo>
                  <a:pt x="26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2" y="20200"/>
                </a:lnTo>
                <a:close/>
              </a:path>
              <a:path fill="lighten" w="26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42" h="21600">
                <a:moveTo>
                  <a:pt x="16570" y="10800"/>
                </a:moveTo>
                <a:lnTo>
                  <a:pt x="6065" y="17806"/>
                </a:lnTo>
                <a:lnTo>
                  <a:pt x="6065" y="3794"/>
                </a:lnTo>
                <a:close/>
              </a:path>
              <a:path fill="darken" w="26142" h="21600">
                <a:moveTo>
                  <a:pt x="18415" y="3794"/>
                </a:moveTo>
                <a:lnTo>
                  <a:pt x="18415" y="17806"/>
                </a:lnTo>
                <a:lnTo>
                  <a:pt x="20078" y="17806"/>
                </a:lnTo>
                <a:lnTo>
                  <a:pt x="20078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09680" y="228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Colegiul National "Andrei Saguna", Bra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17:52Z</dcterms:modified>
  <cp:revision>1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