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7BC-55C9-424C-9E7B-9A82AFB2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207-B436-4D28-B65C-C3699CDE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E24-DB68-429D-9F04-D8A67C1B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267-A8B1-47B3-A0F6-D9275A38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E72-5D4F-4D5F-80D1-4DE3F07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AED-F77F-4307-94CD-5C886A3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317-F6FC-4C4C-A5BE-73746551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A6E-395C-4AC6-B27D-E391F62F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355-52BE-4372-853D-A5795D0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24D-6EF5-486F-8DAB-59CAD18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053-C140-4D95-AAF3-804D7E1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6EA-81AF-4F8C-A310-FB3FA20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3FD-BAA1-44DE-BF7C-5A4F24F2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380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3797" y="17806"/>
                </a:lnTo>
                <a:lnTo>
                  <a:pt x="3797" y="3794"/>
                </a:lnTo>
                <a:close/>
              </a:path>
              <a:path fill="darken" w="21607" h="21600">
                <a:moveTo>
                  <a:pt x="16148" y="3794"/>
                </a:moveTo>
                <a:lnTo>
                  <a:pt x="16148" y="17806"/>
                </a:lnTo>
                <a:lnTo>
                  <a:pt x="17810" y="17806"/>
                </a:lnTo>
                <a:lnTo>
                  <a:pt x="1781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5520" y="5410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0076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12:43Z</dcterms:modified>
  <cp:revision>17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