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FCB-4266-4807-841B-B5140231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97B-E9B2-494A-9826-A80A0ED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1F4-7BEE-4ACF-8C83-3B80FDFF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167-B09D-4DCE-A6A4-A154F480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262-1404-4D92-803E-60254F37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5EB-A499-457B-A548-AA28D436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B6B-9563-4D5F-B541-45F274D8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B82-3205-499C-A3FA-A04F1A0F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36F-B596-4ABB-9CC3-1CBF72DB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B9E-FAE8-41C8-AB66-1806B579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1EF-9232-4D38-89AC-E1D64651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EEC-573D-4162-975D-2320B607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7B75-621E-4CB0-B9D1-5E75A8F8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4114800" y="1219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15282" y="10800"/>
                </a:moveTo>
                <a:lnTo>
                  <a:pt x="4777" y="17806"/>
                </a:lnTo>
                <a:lnTo>
                  <a:pt x="4777" y="3794"/>
                </a:lnTo>
                <a:close/>
              </a:path>
              <a:path fill="darken" w="23566" h="21600">
                <a:moveTo>
                  <a:pt x="17127" y="3794"/>
                </a:moveTo>
                <a:lnTo>
                  <a:pt x="17127" y="17806"/>
                </a:lnTo>
                <a:lnTo>
                  <a:pt x="18790" y="17806"/>
                </a:lnTo>
                <a:lnTo>
                  <a:pt x="18790" y="3794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7800" y="5486400"/>
            <a:ext cx="36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egiul Na</a:t>
            </a:r>
            <a:r>
              <a:rPr b="0" lang="ro-RO" sz="1800" spc="-1" strike="noStrike">
                <a:solidFill>
                  <a:srgbClr val="9933ff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ional "Andrei </a:t>
            </a:r>
            <a:r>
              <a:rPr b="0" lang="ro-RO" sz="1800" spc="-1" strike="noStrike">
                <a:solidFill>
                  <a:srgbClr val="9933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6:58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