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EB57-8E74-49F8-9347-A7A5C92CA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10CE-7929-4308-9A49-AED12E573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AE63-8B17-4709-9547-40C6AA5B9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A046-FBE1-44D5-B19D-D8F0711C3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C22E-F3DC-488C-90B5-27C8C2C40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FDCA-2067-4385-96DC-47842F359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91EB-E31B-4288-A6DD-DA72357AF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F93A-2F83-4033-AB6D-712F7D6DD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F6C5-1F14-4269-BDC1-373D7C8AD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556F-045F-41EC-86EE-BE1023628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0267-6E0D-42A8-A1CE-9D0D6B307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F4AC-6AE7-4151-9CFF-D6A5BB8BC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50F82-44E5-43B1-8AC2-69F9E32DB1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ALTE ROMANE  REALISTE INTERBEL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3352320"/>
            <a:ext cx="6400800" cy="175284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100000">
                <a:srgbClr val="0000ff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Limba şi Literatura Română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clasa a X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a, Doina Ruşti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Ion (1920):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ersonajul titular al romanului ilustrează prin biografia sa situaţia satului românesc de la finele secolului al XIX-lea şi începutul secolului al XX-lea, din Transilvania, aflată în momentul acela sub ocupaţie austro-ungară. Destinul personajului este urmărit de-a lungul a două volume: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lasul pământului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şi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lasul iubirii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on este sărac şi îşi doreşte cu ardoare să aibă pământ, să fie respectat şi iubit. El îşi îndeplineşte cu agresivitate idealul, trăind intens şi sfârşind dramat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Pădurea spânzuraţilor (1922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este un roman despre conflictul dintre sentimentul datoriei şi cel al iubirii de ţară. Rebreanu creează aici un model de analiză psihologic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Răscoala (1932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surprinde psihologia colectivă într-un moment limită, în contextul evenimentului real de la 190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Gorila (1938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prezintă mai ales interes documentar, deoarece transpune perioada legionară, într-o încercare meritorie de conservare a obiectivităţii de scriitor realis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876920" y="1447920"/>
            <a:ext cx="35337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Ion (1920):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ersonajul titular al romanului ilustrează prin biografia sa situaţia satului românesc de la finele secolului al XIX-lea şi începutul secolului al XX-lea, din Transilvania, aflată în momentul acela sub ocupaţie austro-ungară. Destinul personajului este urmărit de-a lungul a două volume: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lasul pământului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şi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lasul iubirii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on este sărac şi îşi doreşte cu ardoare să aibă pământ, să fie respectat şi iubit. El îşi îndeplineşte cu agresivitate idealul, trăind intens şi sfârşind dramat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Pădurea spânzuraţilor (1922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este un roman despre conflictul dintre sentimentul datoriei şi cel al iubirii de ţară. Rebreanu creează aici un model de analiză psihologic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Răscoala (1932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surprinde psihologia colectivă într-un moment limită, în contextul evenimentului real de la 190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Gorila (1938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prezintă mai ales interes documentar, deoarece transpune perioada legionară, într-o încercare meritorie de conservare a obiectivităţii de scriitor realis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876920" y="1447920"/>
            <a:ext cx="3533760" cy="36003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838080" y="56386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ff"/>
                </a:solidFill>
                <a:latin typeface="Arial"/>
              </a:rPr>
              <a:t>Colegiul National " Andrei Saguna" Bras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Teme şi evaluare orientativ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Notă minim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alizaţi în scris caracterizarea a două personaje din Enigma Otiliei şi încadraţi-le într-o categorie umană sau socială. 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zentaţi trăsăturile romanului călinescian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xplicaţi ce se înţelege prin </a:t>
            </a: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hipercorectitudine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crieţi o scurtă compunere (20-30 de rânduri), la persoana I singular, în care să relataţi scena întâlnirii lui Felix cu unchiul său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Notă med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legeţi un citat din miniantologie şi comentaţi-l oral, cu referiri la subiectul operei în discuţi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ăsiţi în romanul lui Călinescu cinci informaţii despre epocă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alizaţi în scris schiţa caracteriologică a cinci personaje din roma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Notă m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ce constă clasicismul operei lui Călinescu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? [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mentaţi în scris teoria lui Pascalopol despre sufletul mediocru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izaţi vocea auctorială din romanul călinescia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clona</cp:lastModifiedBy>
  <dcterms:modified xsi:type="dcterms:W3CDTF">2010-04-14T08:44:29Z</dcterms:modified>
  <cp:revision>17</cp:revision>
  <dc:subject/>
  <dc:title>ALTE ROMANE  REALISTE INTERBEL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