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180EC-2103-4D1F-83B7-2A3F66E76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46CB-475E-4A89-B819-B9B1C952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E03C2-7EA9-4F36-B0BD-519B96532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AE91C-DBBC-4C99-8041-D9C5B18EC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A344D-18D8-474D-8072-EB45D3CE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EBC5-B430-47A2-94D7-C586D3E42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0F1A-C07D-43FF-94DE-858890BBA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B82CD-7B03-4711-B9C5-63700FE0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3972-A18D-4DCB-96B5-7499C70E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FC80-EB96-4D8E-9B94-0F42FC52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88DA-CA8B-4483-929C-5B816ED9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25E1-295B-4EEA-97EA-8A52E06E4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0D77-C7AF-4784-BA30-BC66DB444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 name="PlaceHolder 3"/>
          <p:cNvSpPr>
            <a:spLocks noGrp="1"/>
          </p:cNvSpPr>
          <p:nvPr>
            <p:ph type="dt" idx="1"/>
          </p:nvPr>
        </p:nvSpPr>
        <p:spPr/>
        <p:txBody>
          <a:bodyPr/>
          <a:p>
            <a:fld id="{F371761B-9B52-4FF0-A7E5-E6E6CDB53FDB}" type="datetime10">
              <a:rPr lang="en-US"/>
              <a:t>16: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
          <p:cNvSpPr/>
          <p:nvPr/>
        </p:nvSpPr>
        <p:spPr>
          <a:xfrm>
            <a:off x="1371600" y="1143000"/>
            <a:ext cx="6400800" cy="301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zentăm mai jos câteva exemple de itemi din unele teste de inteligenţă.</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re este numărul care lipseşte din al treilea şir </a:t>
            </a:r>
            <a:r>
              <a:rPr b="0" lang="en-GB"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competente</cp:lastModifiedBy>
  <dcterms:modified xsi:type="dcterms:W3CDTF">2010-05-06T10:28:42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