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D5274-9D38-4E7D-8668-594EC96B3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4DDC6-AC0B-48EC-B587-4BA036D17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12345-F439-49D0-A113-5A5F5E64B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2A348-1A1A-4E11-BF1A-5EC18483E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2C4D2-2F96-452B-B581-772B62498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894BB-3A6A-4DCB-9FF1-96EFDB7BF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4E6EA-832B-4D13-B4D3-22EC5BB9D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04BE8-28C4-4FF3-93FD-D6A7F4F13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09152-9D42-468B-92B1-FEB744D9F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8F06D-E484-4F15-AA55-E55B9CC4D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68D0C-AF04-4656-915B-ECFBF0851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1131B-8634-4B35-8897-04E2A5E18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DDED-BB56-4FF7-9625-3BB57A315C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
          <p:cNvSpPr/>
          <p:nvPr/>
        </p:nvSpPr>
        <p:spPr>
          <a:xfrm>
            <a:off x="609480" y="4038480"/>
            <a:ext cx="2438640" cy="1905120"/>
          </a:xfrm>
          <a:custGeom>
            <a:avLst/>
            <a:gdLst>
              <a:gd name="textAreaLeft" fmla="*/ 573120 w 2438640"/>
              <a:gd name="textAreaRight" fmla="*/ 1864080 w 2438640"/>
              <a:gd name="textAreaTop" fmla="*/ 223920 h 1905120"/>
              <a:gd name="textAreaBottom" fmla="*/ 1195200 h 19051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Arial"/>
              </a:rPr>
              <a:t>Examenul de bacalaureat 2010</a:t>
            </a:r>
            <a:br>
              <a:rPr sz="1000"/>
            </a:br>
            <a:r>
              <a:rPr b="0" i="1" lang="ro-RO" sz="1000" spc="-1" strike="noStrike">
                <a:solidFill>
                  <a:srgbClr val="000000"/>
                </a:solidFill>
                <a:latin typeface="Arial"/>
              </a:rPr>
              <a:t>Proba de evaluare a competenţelor digitale</a:t>
            </a:r>
            <a:r>
              <a:rPr b="0" i="1"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i="1"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i="1" lang="en-GB" sz="1200" spc="-1" strike="noStrike">
                <a:solidFill>
                  <a:srgbClr val="000000"/>
                </a:solidFill>
                <a:latin typeface="Arial"/>
              </a:rPr>
              <a:t> </a:t>
            </a:r>
            <a:endParaRPr b="0" lang="en-US" sz="1200" spc="-1" strike="noStrike">
              <a:solidFill>
                <a:srgbClr val="000000"/>
              </a:solidFill>
              <a:latin typeface="Arial"/>
            </a:endParaRPr>
          </a:p>
        </p:txBody>
      </p:sp>
      <p:pic>
        <p:nvPicPr>
          <p:cNvPr id="47" name="" descr=""/>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zentăm mai jos câteva exemple de itemi din unele teste de inteligenţă.</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re este numărul care lipseşte din al treilea şir </a:t>
            </a:r>
            <a:r>
              <a:rPr b="0" lang="en-GB"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c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clona</cp:lastModifiedBy>
  <dcterms:modified xsi:type="dcterms:W3CDTF">2011-04-01T06:57:22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