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3B9-8FB6-419B-A535-95C74AC4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2F4-38EC-4EAC-BF72-3472F25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D19-E9BC-4094-8F6D-2D3DF64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0A0-CA98-432B-8536-BB766CB7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06B-D898-456E-8BA2-BBA7C2A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F24-6AE5-4CB6-A7DC-89D521F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8CA-F5EC-4EF3-BFD2-E12A8D2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3B6-47A3-4EB9-ACA3-E7FAAA2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8B3-FA1C-46DD-AA3E-E0A2CAF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37A-9063-4181-A803-04E8EBD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A8C-ED20-4DB5-93E8-10DFACC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5B5-8AB5-4619-A4CF-1318A9A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E3E-D91C-491F-A533-B3BC6D269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869000"/>
            <a:ext cx="1728720" cy="1512720"/>
          </a:xfrm>
          <a:custGeom>
            <a:avLst/>
            <a:gdLst>
              <a:gd name="textAreaLeft" fmla="*/ 406080 w 1728720"/>
              <a:gd name="textAreaRight" fmla="*/ 1321200 w 1728720"/>
              <a:gd name="textAreaTop" fmla="*/ 177840 h 1512720"/>
              <a:gd name="textAreaBottom" fmla="*/ 948960 h 151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clona</cp:lastModifiedBy>
  <dcterms:modified xsi:type="dcterms:W3CDTF">2011-03-31T06:56:23Z</dcterms:modified>
  <cp:revision>18</cp:revision>
  <dc:subject/>
  <dc:title>Slide 1</dc:title>
</cp:coreProperties>
</file>