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8E0A-A182-4C25-AD64-40A32AAE8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B670-5CFD-4A7D-A799-5B492297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3582-A591-463C-A31F-7C9803250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4C36-BEFB-4EB6-9B2F-BC0111C02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CAFD-13CB-4B87-9C34-5E39A98D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3E8E-C533-42DF-85EB-F3350D87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1826-9429-4B48-8575-B90E19FF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2D26-C4AE-4647-BD79-2B3A3466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1031-F361-4BFB-81B5-261F40B7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05A4-3F3E-48DF-B8BD-D3774EBA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E325-B778-4CD1-A647-C952CB15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507F-4078-486E-BFB2-25B90600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7986-6B3B-412C-9563-88D8B7712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CIZI ŞI BA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nualul de Chimie,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Elena Alexandrescu, Viorica Zaharia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1905120"/>
            <a:ext cx="1828800" cy="1752480"/>
          </a:xfrm>
          <a:custGeom>
            <a:avLst/>
            <a:gdLst>
              <a:gd name="textAreaLeft" fmla="*/ 429840 w 1828800"/>
              <a:gd name="textAreaRight" fmla="*/ 1397880 w 1828800"/>
              <a:gd name="textAreaTop" fmla="*/ 205920 h 1752480"/>
              <a:gd name="textAreaBottom" fmla="*/ 1099440 h 17524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Acizii şi bazele sunt substanţe compuse anorganice sau organice implicate în multe procese naturale sau în reacţiile aplicate în laboratoarele de chimie şi în industria chimică.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Indicatorii acido-bazici sunt substanţe organice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olorate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care îşi schimbă structura şi, în consecinţă, culoarea, în funcţie de caracterul acid sau ba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ic al soluţ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În soluţia apoasă diluată de acid clorhidric, concentraţia ionilor H</a:t>
            </a:r>
            <a:r>
              <a:rPr b="0" i="1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 este mare, pentru că, practic, toate moleculele de acid clorhidric au ionizat la dizolvare. Acidul clorhidric este un acid tare. În aceste condiţii, mai multe molecule de turnesol şi-au schimbat structura şi culoarea roşie este mai intensă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Sunt şi alte teorii în chimie care definesc noţiunile de acid şi bază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În anul 1880, Svante Arrhenius  a definit acizii ca substanţe compuse care, în soluţie apoasă, formează ioni hidrataţi de h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drogen (H</a:t>
            </a:r>
            <a:r>
              <a:rPr b="0" i="1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(aq)) şi bazele ca substanţe compuse care eliberează în soluţie ioni metalici (Me</a:t>
            </a:r>
            <a:r>
              <a:rPr b="0" i="1" lang="ro-RO" sz="1200" spc="-1" strike="noStrike" baseline="30000">
                <a:solidFill>
                  <a:srgbClr val="000000"/>
                </a:solidFill>
                <a:latin typeface="Arial"/>
              </a:rPr>
              <a:t>n+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) şi ioni hidroxid (HO</a:t>
            </a:r>
            <a:r>
              <a:rPr b="0" i="1" lang="ro-RO" sz="1200" spc="-1" strike="noStrike" baseline="30000">
                <a:solidFill>
                  <a:srgbClr val="000000"/>
                </a:solidFill>
                <a:latin typeface="Arial"/>
              </a:rPr>
              <a:t> -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Substanţe ca HCI, H</a:t>
            </a:r>
            <a:r>
              <a:rPr b="0" i="1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i="1" lang="ro-RO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 , CH</a:t>
            </a:r>
            <a:r>
              <a:rPr b="0" i="1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COOH sunt acizi Arrhenius, iar substanţe ca NaOH, Ca(OH)</a:t>
            </a:r>
            <a:r>
              <a:rPr b="0" i="1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, KOH sunt baze Arrhen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0290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533520" y="1066680"/>
            <a:ext cx="784836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licaț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. Compoziţia  procentuală de masă a unui oxoacid cu M=98 este:  2,04% H, 32,653% S, 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306%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abiliţi formula moleculară a oxoacidul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ecuaţiile reacţiilor de ionizare ce au loc la dizolvarea oxoacidului în ap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reciaţi tăria oxoacidului, ştiind că are constantele de aciditate :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,2*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2. Metilamina (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este o bază slabă. În soluţia apoasă de metilamină,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ai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3. Acidul iodhidric  (HI) este un acid foarte tare. În soluţia apoasă de acid iodhidric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ii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concentraţii egale cu concentraţia iniţială a acid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ionii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1596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lona</cp:lastModifiedBy>
  <dcterms:modified xsi:type="dcterms:W3CDTF">2011-03-29T05:39:29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