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563-FFA1-4820-8BE9-C9B21403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7E7-4F4F-4F9B-ABAA-3DD35490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B67-6E71-40E5-8BDD-757180F2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FEB-A0A5-45F5-8F22-0287C925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3EB-A82A-42BF-BAC4-ECAFE31F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085-61EC-46AD-A4A7-B545FD4A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74E-792E-4985-9BD4-571FD6C5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132-F544-4C58-8C3D-BD287B8F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3A9-C49D-4AA1-B2DC-A38F3048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F8F-E852-46B7-9D39-98B140B3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A4F-43F3-4AA1-BD21-EDD3D9BA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7446-1B21-4DA8-BA62-028076EA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BD29-F3EE-47E4-8D8E-23668EB83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1219320"/>
            <a:ext cx="1752480" cy="1676160"/>
          </a:xfrm>
          <a:custGeom>
            <a:avLst/>
            <a:gdLst>
              <a:gd name="textAreaLeft" fmla="*/ 411840 w 1752480"/>
              <a:gd name="textAreaRight" fmla="*/ 1339560 w 1752480"/>
              <a:gd name="textAreaTop" fmla="*/ 196920 h 1676160"/>
              <a:gd name="textAreaBottom" fmla="*/ 1051560 h 1676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comp_i"/>
          <p:cNvPicPr/>
          <p:nvPr/>
        </p:nvPicPr>
        <p:blipFill>
          <a:blip r:embed="rId1"/>
          <a:stretch/>
        </p:blipFill>
        <p:spPr>
          <a:xfrm>
            <a:off x="5105520" y="167652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ona</cp:lastModifiedBy>
  <dcterms:modified xsi:type="dcterms:W3CDTF">2011-03-29T05:22:21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