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21A-6A48-4214-ACC9-9700F90A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EF61-E6BE-42C1-AB4C-6291E323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09C-60E7-4847-A706-EB990F40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5655-5470-48C6-926A-31D368F7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54E-1E67-4E4F-927E-F04FE02A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DF4-CDC4-4652-AE87-7C14ADBE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501C-9C4C-45CE-8429-EF020982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D6B-E87E-4F81-8E8E-59C08942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FA6-A7F9-4EDC-A44E-E98C8FD3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353-A5A1-48F2-8C27-6E988AE6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0B1-C678-4D85-B44B-498D6DAB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DC1-C296-409F-A383-69B0F1A5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F653-F6AD-4FCF-B69F-B787D0C03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3880"/>
            <a:ext cx="2361960" cy="2286000"/>
          </a:xfrm>
          <a:custGeom>
            <a:avLst/>
            <a:gdLst>
              <a:gd name="textAreaLeft" fmla="*/ 555120 w 2361960"/>
              <a:gd name="textAreaRight" fmla="*/ 1805400 w 2361960"/>
              <a:gd name="textAreaTop" fmla="*/ 268560 h 2286000"/>
              <a:gd name="textAreaBottom" fmla="*/ 1433880 h 228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ona</cp:lastModifiedBy>
  <dcterms:modified xsi:type="dcterms:W3CDTF">2011-03-28T06:22:0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