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255C1-824C-4735-83FF-9930C8EFD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AACB8-6B80-4C08-B25E-10C2C283E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C9F17-0632-495E-BF03-9F0028EFF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24287-F602-4F7E-A4A1-03A1F43B8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4975F-9121-4102-930C-6ECCB2363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D7975-CE43-4F4B-BE21-7F3CFAAD9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B0FDC-0832-4AF2-9981-DC8A2DB36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0373F-3DFB-4001-B28F-4493FFC72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C43C7-CFB2-4D9B-8508-F1E138AFD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3B3D8-A4D0-456C-BAEC-340D57F5C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0E7DA-A181-48F8-886D-4AAE0C05B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2F90D-A9C1-46EF-A536-0F4D80B74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BBEB-8E8C-4A1C-9976-7ED8968219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
          <p:cNvSpPr/>
          <p:nvPr/>
        </p:nvSpPr>
        <p:spPr>
          <a:xfrm>
            <a:off x="457200" y="2133720"/>
            <a:ext cx="1523880" cy="1828800"/>
          </a:xfrm>
          <a:custGeom>
            <a:avLst/>
            <a:gdLst>
              <a:gd name="textAreaLeft" fmla="*/ 358200 w 1523880"/>
              <a:gd name="textAreaRight" fmla="*/ 1164600 w 1523880"/>
              <a:gd name="textAreaTop" fmla="*/ 214920 h 1828800"/>
              <a:gd name="textAreaBottom" fmla="*/ 1147320 h 18288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i="1"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5" descr=""/>
          <p:cNvPicPr/>
          <p:nvPr/>
        </p:nvPicPr>
        <p:blipFill>
          <a:blip r:embed="rId1"/>
          <a:stretch/>
        </p:blipFill>
        <p:spPr>
          <a:xfrm>
            <a:off x="5105520" y="167652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00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ona</cp:lastModifiedBy>
  <dcterms:modified xsi:type="dcterms:W3CDTF">2011-03-29T05:24:33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