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D370E-7ED0-4E6F-B96D-A9EA58274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B4956-5AB9-4795-9CB0-AD5F62B5A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EC726-6788-4E86-A2FE-926063BD8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38725-A982-4237-BEE4-7A12F6D43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D5169-AA8A-4D08-A5D6-A33601E0A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4B628-128C-41D9-9959-44E3E06BC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6CF32-1302-4CC8-B464-9F735C857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B1739-5801-4537-A31C-1C537A5AF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AB618-FDFF-49D8-AADC-97E0AB489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BFC7-677B-445E-9669-42CA28C75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47CA-A65C-40EB-9BFC-8EECC6287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1548-59C8-43B4-A751-A60F99328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0B14-0F64-4552-B930-91FB95F732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AMBLAREA NITUITĂ</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Meca</a:t>
            </a:r>
            <a:r>
              <a:rPr b="0" i="1" lang="ro-RO" sz="1000" spc="-1" strike="noStrike">
                <a:solidFill>
                  <a:srgbClr val="000000"/>
                </a:solidFill>
                <a:latin typeface="Arial"/>
              </a:rPr>
              <a:t>nică aplicată</a:t>
            </a:r>
            <a:r>
              <a:rPr b="0" i="1" lang="it-IT" sz="1000" spc="-1" strike="noStrike">
                <a:solidFill>
                  <a:srgbClr val="000000"/>
                </a:solidFill>
                <a:latin typeface="Arial"/>
              </a:rPr>
              <a:t>, clasa a X-a</a:t>
            </a:r>
            <a:r>
              <a:rPr b="0" lang="it-IT" sz="1000" spc="-1" strike="noStrike">
                <a:solidFill>
                  <a:srgbClr val="000000"/>
                </a:solidFill>
                <a:latin typeface="Arial"/>
              </a:rPr>
              <a:t>, Gabriela Lichiardopol, Iuliana Mustaţă, Florina Daniela Pişleagă)</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
          <p:cNvSpPr/>
          <p:nvPr/>
        </p:nvSpPr>
        <p:spPr>
          <a:xfrm>
            <a:off x="2411280" y="2492280"/>
            <a:ext cx="1047960" cy="914400"/>
          </a:xfrm>
          <a:custGeom>
            <a:avLst/>
            <a:gdLst>
              <a:gd name="textAreaLeft" fmla="*/ 246240 w 1047960"/>
              <a:gd name="textAreaRight" fmla="*/ 801000 w 104796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68000" y="1484280"/>
            <a:ext cx="4032360" cy="460872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Asamblarea nituită se foloseşte când asamblarea prin alte metode este greoaie. De exemplu, atunci când avem materiale greu fuzibile sau nesudabile, nituirea este metoda cea mai bună de asamblare atât din punct de vedere calitativ cât şi economi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Îmbinările nituite pot fi: îmbinări de rezistenţă, întâlnite la construcţiile metalice (poduri), îmbinări de etanşare (recipiente de depozitare) sau îmbinări de etanşare-rezistenţă (construcţia n</a:t>
            </a:r>
            <a:r>
              <a:rPr b="0" i="1" lang="en-GB" sz="1200" spc="-1" strike="noStrike">
                <a:solidFill>
                  <a:srgbClr val="000000"/>
                </a:solidFill>
                <a:latin typeface="Arial"/>
              </a:rPr>
              <a:t>a</a:t>
            </a:r>
            <a:r>
              <a:rPr b="0" i="1" lang="ro-RO" sz="1200" spc="-1" strike="noStrike">
                <a:solidFill>
                  <a:srgbClr val="000000"/>
                </a:solidFill>
                <a:latin typeface="Arial"/>
              </a:rPr>
              <a:t>velor fluviale, maritime, recipiente de presiune et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Nitul este elementul de asamblare care diferă după forma capului şi poate fi: cu cap semirotund, cu cap înecat, cu cap semiînecat, cu cap bombat etc.  Tija nitului este de secţiune circulară şi poate fi tijă plină, tubulară sau semitubulară (figura 4.6).</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Forma nitului utilizat</a:t>
            </a:r>
            <a:r>
              <a:rPr b="0" i="1" lang="en-GB" sz="1200" spc="-1" strike="noStrike">
                <a:solidFill>
                  <a:srgbClr val="000000"/>
                </a:solidFill>
                <a:latin typeface="Arial"/>
              </a:rPr>
              <a:t>,</a:t>
            </a:r>
            <a:r>
              <a:rPr b="0" i="1" lang="ro-RO" sz="1200" spc="-1" strike="noStrike">
                <a:solidFill>
                  <a:srgbClr val="000000"/>
                </a:solidFill>
                <a:latin typeface="Arial"/>
              </a:rPr>
              <a:t> depinde de forţele care acţionează şi de forma suprafeţelor exterioar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După felul aşezării relative a tablelor, nituirea poate fi: prin suprapunere (figura 4.7) sau cu eclise (figura 4.8); nituirea cu eclise poate fi cu o eclisă sau cu două eclise.</a:t>
            </a:r>
            <a:endParaRPr b="0" lang="en-US" sz="1200" spc="-1" strike="noStrike">
              <a:solidFill>
                <a:srgbClr val="000000"/>
              </a:solidFill>
              <a:latin typeface="Calibri"/>
            </a:endParaRPr>
          </a:p>
        </p:txBody>
      </p:sp>
      <p:sp>
        <p:nvSpPr>
          <p:cNvPr id="46"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xamenul de bacalaureat 20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7" name="Picture 10" descr="comp_i"/>
          <p:cNvPicPr/>
          <p:nvPr/>
        </p:nvPicPr>
        <p:blipFill>
          <a:blip r:embed="rId1"/>
          <a:stretch/>
        </p:blipFill>
        <p:spPr>
          <a:xfrm>
            <a:off x="5072040" y="1857240"/>
            <a:ext cx="3438720" cy="343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o asamblare, nitul este supus solicitărilor d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inde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feca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siune de contact sau strivire (turtire). </a:t>
            </a:r>
            <a:r>
              <a:rPr b="0" lang="fr-FR"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este o asamblar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demontabil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 se realizează cu ajutorul unui organ de asamblare numit ni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lul asamblărilor nituite este de a asigur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zistenţa (în cazul construcţiilor metalic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eitatea (în cazul bazinelor, recipienţilor pentru depozitare)</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are şi rezistenţă (în cazul construcţiei navelor fluviale, aeriene, recipienţilor de presiune).</a:t>
            </a:r>
            <a:endParaRPr b="0" lang="en-US" sz="1200" spc="-1" strike="noStrike">
              <a:solidFill>
                <a:srgbClr val="000000"/>
              </a:solidFill>
              <a:latin typeface="Calibri"/>
            </a:endParaRPr>
          </a:p>
        </p:txBody>
      </p:sp>
      <p:sp>
        <p:nvSpPr>
          <p:cNvPr id="49"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BAC09_s1_010609</dc:creator>
  <dc:description/>
  <dc:language>en-US</dc:language>
  <cp:lastModifiedBy>clona</cp:lastModifiedBy>
  <dcterms:modified xsi:type="dcterms:W3CDTF">2011-04-01T05:55:32Z</dcterms:modified>
  <cp:revision>21</cp:revision>
  <dc:subject/>
  <dc:title>SALARIUL</dc:title>
</cp:coreProperties>
</file>