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60BE-8477-4BDE-8280-1E5FF1FF1849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alaureat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4341-C16E-4496-A813-4BC2B644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167B-C688-4045-9B03-B62408EC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16A0-D046-4EEB-B3DF-A1F644C58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7DAC-7798-4E9C-9955-1A374A362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F990-9F94-48B7-A8E7-32F4ADE8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4852-C966-41DB-A094-69C37A5B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7499-4AC1-4037-BAA6-5B58FE43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D115-1D62-4257-A464-B2530089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1E46-3AE8-454C-9418-23BDCCCD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6619-086D-4130-9179-5BA98929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BA4F-9361-4CAF-BFDB-A57AB479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CFD4-5795-4300-A757-9790A4FD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166E-52F0-4D29-A15F-E5D666723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6680" y="1523880"/>
            <a:ext cx="6553440" cy="4419720"/>
          </a:xfrm>
          <a:prstGeom prst="hexagon">
            <a:avLst>
              <a:gd name="adj" fmla="val 37069"/>
              <a:gd name="vf" fmla="val 115470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6668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comp_i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1-03-21T07:32:29Z</dcterms:modified>
  <cp:revision>22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