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D79-0FE1-4703-BB9B-11775E9D929A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757-1531-4300-9AFE-49273717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7F7-D17D-44A1-B9E4-77101109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6A3-C4AD-46DF-B602-A8E6891D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0A9-0BE2-40F8-AC5E-DE31699C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712-3E94-4510-9BB5-32A9C25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672-2CB0-49EF-BFB2-4713DB2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A10-1E80-4A5A-91CB-449A9FE0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269-908B-4879-9622-04E47CF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64B-A1BF-4C23-841C-8BA9ADC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328-3A4D-491F-B82E-1CC8A98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106-3886-49F2-98D6-F210A87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FF3-E8EF-42B8-9E11-CDB88AC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32DD-73B2-40FD-A445-52E10D171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572000"/>
            <a:ext cx="2133720" cy="1752480"/>
          </a:xfrm>
          <a:prstGeom prst="hexagon">
            <a:avLst>
              <a:gd name="adj" fmla="val 30439"/>
              <a:gd name="vf" fmla="val 115470"/>
            </a:avLst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2286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5T06:55:2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