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B2B7-CF33-4753-98AC-B3AF403BE346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alaureat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139A-3514-4C19-AAD9-9C1B18E0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8BA9-F484-4283-A7A6-852D1E76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C77-6556-41E1-ACDD-266F947A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DAC-69B5-4ACF-8B31-6AB07415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951-3267-4837-9560-A001832B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32C-5F45-4996-AC12-655B7701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499-5C2E-4148-8626-68181A39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703-CCB8-453A-A6B3-A2D5FADE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6D5-1734-4243-8BF7-77ADA389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927-D888-4AB1-9405-699AB26D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DDC-4A3B-4672-B98B-DB735231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4009-FD9E-4B7B-969B-59FF9FDD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8874-C728-42EF-B262-2CE7AC6E1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4572000"/>
            <a:ext cx="1066680" cy="1066680"/>
          </a:xfrm>
          <a:prstGeom prst="hexagon">
            <a:avLst>
              <a:gd name="adj" fmla="val 25000"/>
              <a:gd name="vf" fmla="val 11547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600"/>
            </a:b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1-03-24T08:51:20Z</dcterms:modified>
  <cp:revision>41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