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172-198C-497F-A4E1-B88599EF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959-4283-4007-9C0D-CAEAA25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EA3-4C1F-46D0-8158-2D0E24EE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EA0-5901-487F-B43C-C5668FE0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5FF-51CD-4D4C-AF71-728D2C64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0BC-B65B-498B-BB52-22FCD6D1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209-8944-4B01-BE4E-5A43691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551-D2BA-4895-B149-32C0BD1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B3B-F230-4F9E-A3A1-6A910276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2A8-49A1-46C7-8228-0CA22C7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CC0-7404-4A76-8BF5-616C60A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0ED-7012-4E53-9396-312D4CBC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D84C-AADB-4A70-9563-64454313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4267080"/>
            <a:ext cx="1828800" cy="13716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6095880"/>
            <a:ext cx="4496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alaureat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1-03-22T06:34:44Z</dcterms:modified>
  <cp:revision>30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