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EF3-BEDE-4514-9EAD-1D7633FC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061F-3ED8-4F27-B045-17086B79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615-1B2D-4DD9-A9EC-F8F40818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B42D-5523-412E-A5A9-2A87E91A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E118-D7DD-4F29-ADBE-A5E69EFA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7E5E-A223-40AA-BAE4-2F3E554D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D26-B911-4017-B361-19AEECC2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7066-2BEC-4948-97D1-25A488CB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C7D5-3DBC-4B6E-8625-8DC5D2B9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E6C-98ED-454E-958C-07603876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2AA-AFC4-4F5E-8AEA-7FCF38E5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E92-4D75-42A4-A12E-B6D864D9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AB27-7C39-407B-8C0E-262968FCB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819520"/>
            <a:ext cx="990360" cy="914400"/>
          </a:xfrm>
          <a:custGeom>
            <a:avLst/>
            <a:gdLst>
              <a:gd name="textAreaLeft" fmla="*/ 232560 w 990360"/>
              <a:gd name="textAreaRight" fmla="*/ 757080 w 9903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1-03-29T05:20:37Z</dcterms:modified>
  <cp:revision>3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