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3C54-67CE-46A8-B2A4-0DBB673DF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EEF5-A99E-4862-87AB-58F9147CF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B5A6-009A-4245-AF71-0D6496375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23FA-4412-445C-A38A-960076938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B726-6540-44C0-8A8F-15AEE193A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21A2-AF82-4ACF-B462-CD54926F2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03E1-98AF-42AA-8C96-73ECE03E6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B7A8-AF46-4CCA-B391-EFEB93ABB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1936-B241-4BA5-A3BA-668175784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9C56-D101-4A0B-980F-B301FA8E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27B2-4D97-4A5F-A04B-919C6B988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E502-EACE-4329-8452-E4FEA04E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1536A-71FF-4CCA-9FFD-5A3D66A05C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TROL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04920" y="380880"/>
            <a:ext cx="838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Manualul de Chimi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clasa a X-a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Rodica Constantinescu, Maria-Luiza Popescu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6200" y="1143000"/>
            <a:ext cx="1295280" cy="1143000"/>
          </a:xfrm>
          <a:custGeom>
            <a:avLst/>
            <a:gdLst>
              <a:gd name="textAreaLeft" fmla="*/ 304200 w 1295280"/>
              <a:gd name="textAreaRight" fmla="*/ 990000 w 1295280"/>
              <a:gd name="textAreaTop" fmla="*/ 134280 h 1143000"/>
              <a:gd name="textAreaBottom" fmla="*/ 717120 h 1143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Primele cercetări legate de cunoaşterea compozi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ţiei 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petrolului românesc au fost iniţiate la sfârşitul secolului trecut de către Petru Poni (1841 - 1925) la Iaşi, care a izolat anumiţi termeni ai seriilor de hidrocarburi din pe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Petrolul este un amestec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complex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 de hidrocarburi gazoase şi solide, dizolvate în hidrocarburi lichide. Hidrocarburile frecvent întâlnite în compoziţia petrolului aparţin în general seriei alcanilor, cicloalcanilor (naftene) şi arenel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Alchenele şi alchinele mai reactive lipsesc din petrol. Pe lângă hidrocarburile menţionate, în petrol mai apar şi compuşi organici cu oxigen, azot sau sulf, în cantităţi foarte mic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Sulful trebuie îndepărtat în cursul prelucrării petrolului, deoarece prin ardere rezultă dioxid de sulf (un gaz corozi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În funcţie de locul zăcământului şi de condiţiile în care acesta s-a format, în compoziţia petrolului pot predomina una sau alta dintre aceste clase de hidrocarbur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comp_i"/>
          <p:cNvPicPr/>
          <p:nvPr/>
        </p:nvPicPr>
        <p:blipFill>
          <a:blip r:embed="rId1"/>
          <a:stretch/>
        </p:blipFill>
        <p:spPr>
          <a:xfrm>
            <a:off x="5105520" y="1676520"/>
            <a:ext cx="3600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br>
              <a:rPr sz="4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etrolul est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un lichid vâscos, de culoare brună, cu fluorescenţă verde-albăstruie, cu miros spe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ensitatea petrolului este mai mică decât a apei, variind între 0,800 şi 0,930 g/c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te insolubil în apă, formând cu aceasta o emuls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rac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racarea este procesul în care au loc ruperi ale unor legături simple C-C din alcani şi cicloalcani. Cracarea poate fi termică sau catalit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ateriile prime folosite la cracarea termică sunt motorina şi păcura, iar produşii rezultaţi sunt alcani şi alchene inferioare, numite gaze de cracare, benzină de cracare şi cocs petroli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racarea catalitică foloseşte în special motorina ca materie primă. Se obţin gaze de rafinărie, benzină mai bună decât cea obţinută prin cracarea termică şi cocs petroli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Ştiaţi c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În urma prelucrării complexe a petrolului se obţin circa 300 de prod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Metanul este principalul constituent al gazelor natur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Gazele naturale, care însoţesc în general zăcămintele de petrol, sunt o sursă de materii prime pentru obţinerea de produse: îngrăşăminte, mase plastice, cauciuc cloroprenic, acetilenă, metanol, formaldehidă, solvenţi, hidrogen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lona</cp:lastModifiedBy>
  <dcterms:modified xsi:type="dcterms:W3CDTF">2011-04-01T06:11:04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