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7A730-0CB5-41A2-9C47-4755778B6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BD05C-33BA-4AC1-8742-D7AA13EF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F5E1C-D27C-4BE2-9B39-F19BA8301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6D26B-A75F-4ECB-B3E8-CB7C13F66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D98CC-786B-4805-B744-54D133E7F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A1A35-C4B9-49C3-BD7C-8947E083E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3A62C-8030-4E10-91D7-0A41239F3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407BB-512F-4E68-A1D5-B7B6EED3C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97EAD-23C0-4021-90A9-75F6B61ED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BD4B-C18C-4F4B-B808-2CC5E6A76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77FC-DFA4-420A-95D8-FE5BBC264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7141-8B48-4CBE-973D-3916CBC1C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DF50-3ED1-4DF3-8651-5BB8CBEADA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
          <p:cNvSpPr/>
          <p:nvPr/>
        </p:nvSpPr>
        <p:spPr>
          <a:xfrm>
            <a:off x="609480" y="4038480"/>
            <a:ext cx="2667240" cy="2286000"/>
          </a:xfrm>
          <a:custGeom>
            <a:avLst/>
            <a:gdLst>
              <a:gd name="textAreaLeft" fmla="*/ 626760 w 2667240"/>
              <a:gd name="textAreaRight" fmla="*/ 2038680 w 2667240"/>
              <a:gd name="textAreaTop" fmla="*/ 268560 h 2286000"/>
              <a:gd name="textAreaBottom" fmla="*/ 1433880 h 2286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bbe0e3"/>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i="1"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i="1"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 descr=""/>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zentăm mai jos câteva exemple de itemi din unele teste de inteligenţă.</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re este numărul care lipseşte din al treilea şir </a:t>
            </a:r>
            <a:r>
              <a:rPr b="0" lang="en-GB"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66"/>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clona</cp:lastModifiedBy>
  <dcterms:modified xsi:type="dcterms:W3CDTF">2011-03-29T05:21: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