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494F3-23CA-41C1-B5F2-7231FA966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221C-AAE3-46AD-8CB7-C6117A1E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C7FB9-1148-42CE-A3C3-23AB381D2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10BB2-9208-46E8-A652-418C3B1B0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0337-B48A-4D2E-8B3C-963B1A7A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BB2E-42AB-4F07-8EE8-F27953D6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A071-180C-4D39-B019-DBA16282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761EC-451F-4E97-8234-D04BBF72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38681-5758-42E2-B8C3-FEBEDCAC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03FE-99FA-4B01-B1D7-5D3AF8DB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1A03-EE89-4BFA-863A-5534B7518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598A-86C9-42FC-B34A-3384C4887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3030-84F6-4AF0-B3D7-03C2D0CAE1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43" name="Text Box 4"/>
          <p:cNvSpPr/>
          <p:nvPr/>
        </p:nvSpPr>
        <p:spPr>
          <a:xfrm>
            <a:off x="324000" y="26028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6156360" y="1628640"/>
            <a:ext cx="2303280" cy="1944720"/>
          </a:xfrm>
          <a:custGeom>
            <a:avLst/>
            <a:gdLst>
              <a:gd name="textAreaLeft" fmla="*/ 541080 w 2303280"/>
              <a:gd name="textAreaRight" fmla="*/ 1760400 w 2303280"/>
              <a:gd name="textAreaTop" fmla="*/ 228600 h 1944720"/>
              <a:gd name="textAreaBottom" fmla="*/ 1220040 h 1944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Sunt eucariote uni- sau pluricelulare din regnul Protista, al căror corp vegeta</a:t>
            </a:r>
            <a:r>
              <a:rPr b="0" i="1" lang="en-GB" sz="1200" spc="-1" strike="noStrike">
                <a:solidFill>
                  <a:srgbClr val="000000"/>
                </a:solidFill>
                <a:latin typeface="Arial"/>
              </a:rPr>
              <a:t>tiv</a:t>
            </a:r>
            <a:r>
              <a:rPr b="0" i="1"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i="1" lang="en-GB" sz="1200" spc="-1" strike="noStrike">
                <a:solidFill>
                  <a:srgbClr val="000000"/>
                </a:solidFill>
                <a:latin typeface="Arial"/>
              </a:rPr>
              <a:t> </a:t>
            </a:r>
            <a:endParaRPr b="0" lang="en-US" sz="1200" spc="-1" strike="noStrike">
              <a:solidFill>
                <a:srgbClr val="000000"/>
              </a:solidFill>
              <a:latin typeface="Calibri"/>
            </a:endParaRPr>
          </a:p>
        </p:txBody>
      </p:sp>
      <p:pic>
        <p:nvPicPr>
          <p:cNvPr id="47" name="Content Placeholder 6" descr="Cladophora.jpg"/>
          <p:cNvPicPr/>
          <p:nvPr/>
        </p:nvPicPr>
        <p:blipFill>
          <a:blip r:embed="rId1"/>
          <a:stretch/>
        </p:blipFill>
        <p:spPr>
          <a:xfrm>
            <a:off x="4932360" y="1989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29T05:25:24Z</dcterms:modified>
  <cp:revision>17</cp:revision>
  <dc:subject/>
  <dc:title>Slide 1</dc:title>
</cp:coreProperties>
</file>