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1E1-4582-4EE8-89B9-2DFF311B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A93-40FE-4452-8338-C609C34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A5B-43B0-4574-A57A-6CBF896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81F-E757-4EB6-B219-F1D768D2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473-F5D1-4B1F-9987-9275226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315-869F-4EEE-849C-354AAC8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BC8-9F6F-4053-8D8E-DB58B8B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C9F-C69B-4276-A01C-2A6A8309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9A9-8332-4208-ABF9-7D223FD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DAF-4BF5-4D81-8335-7C691991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3E5-F846-4B56-B51A-177C56F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763-1937-4F65-AAEE-129170D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359-DDF4-4688-B378-3AD3D63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6B1-0B44-456D-863F-0CEA53B57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4653000"/>
            <a:ext cx="1800000" cy="1512720"/>
          </a:xfrm>
          <a:prstGeom prst="hexagon">
            <a:avLst>
              <a:gd name="adj" fmla="val 29748"/>
              <a:gd name="vf" fmla="val 115470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clona</cp:lastModifiedBy>
  <dcterms:modified xsi:type="dcterms:W3CDTF">2011-03-24T06:49:44Z</dcterms:modified>
  <cp:revision>18</cp:revision>
  <dc:subject/>
  <dc:title>Slide 1</dc:title>
</cp:coreProperties>
</file>