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DC18-7372-4B4A-BEB7-536CE746273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7B661-3723-4405-BAA1-27C7370D1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CF49-BA75-41F0-ADEB-819873DE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C59CD-002B-4A6D-B550-3B9568043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6DF47-2C63-4F88-8030-6BCFF0AFE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B0552-EE90-44B5-81E6-A091B199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384B-A810-41E9-B6B7-F1A7D831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7E34-50B3-48E6-8892-3532B3FFD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4A483-D134-4ABB-B728-C55A82A5E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85D8-4902-4EB0-90E2-C9DDDCCDF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FA3D-1C83-48A5-A757-77E2356CA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C8C8-BA37-4DD6-858E-FCEC1941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96DC-57B0-40FF-8E87-095A39426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64ED-A58E-4654-B3CD-3AC95F711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6934320" y="304920"/>
            <a:ext cx="1600200" cy="1523880"/>
          </a:xfrm>
          <a:prstGeom prst="octagon">
            <a:avLst>
              <a:gd name="adj" fmla="val 29287"/>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3"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54" name="Picture 7" descr=""/>
          <p:cNvPicPr/>
          <p:nvPr/>
        </p:nvPicPr>
        <p:blipFill>
          <a:blip r:embed="rId1"/>
          <a:stretch/>
        </p:blipFill>
        <p:spPr>
          <a:xfrm>
            <a:off x="5029200" y="1676520"/>
            <a:ext cx="360036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box(in)"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2" dur="5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7" dur="500"/>
                                        <p:tgtEl>
                                          <p:spTgt spid="5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22" dur="500"/>
                                        <p:tgtEl>
                                          <p:spTgt spid="5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7" dur="500"/>
                                        <p:tgtEl>
                                          <p:spTgt spid="5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32" dur="500"/>
                                        <p:tgtEl>
                                          <p:spTgt spid="5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2"/>
                                        </p:tgtEl>
                                        <p:attrNameLst>
                                          <p:attrName>style.visibility</p:attrName>
                                        </p:attrNameLst>
                                      </p:cBhvr>
                                      <p:to>
                                        <p:strVal val="visible"/>
                                      </p:to>
                                    </p:set>
                                    <p:animEffect filter="diamond(in)" transition="in">
                                      <p:cBhvr additive="repl">
                                        <p:cTn id="3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br>
              <a:rPr sz="1600"/>
            </a:br>
            <a:endParaRPr b="0" lang="en-US" sz="1600" spc="-1" strike="noStrike">
              <a:solidFill>
                <a:srgbClr val="000000"/>
              </a:solidFill>
              <a:latin typeface="Arial"/>
            </a:endParaRPr>
          </a:p>
        </p:txBody>
      </p:sp>
      <p:sp>
        <p:nvSpPr>
          <p:cNvPr id="56"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4T07:51:12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