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E6C-8663-44D8-B0BC-CBFDA999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DF8-B20A-47E5-A56E-E8C1EA60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BFA-2FCC-4FD2-B81C-EA078031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16F-8C38-47BD-92BC-09497C0E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C8C-1AA6-4CD4-92EA-20B34E6E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A17-7C29-4853-9F13-7E7EFB59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2D8-25B9-48BE-95C2-B47CF871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5E2-6AE5-4904-ABB5-75776396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427-02CB-4E47-96E2-62EE1DC9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027-3707-47FF-8725-C0909FEB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4A1-C365-499F-B055-08A9A57A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747-CB7A-4172-8DC3-4929A923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781B-1FE0-4ECC-A220-AABAB4A84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TITUIREA STATELOR MEDIEVALE ÎN SPAȚIUL ROMÂNES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5840"/>
            <a:ext cx="72864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2060640"/>
            <a:ext cx="1079640" cy="108108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27080 h 1081080"/>
              <a:gd name="textAreaBottom" fmla="*/ 678240 h 10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125000"/>
            <a:ext cx="4751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rocesul european de constituire a statelor medievale s-a înregistrat şi în spaţiul românesc. Au existat premise interne şi exte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remisele interne au fost diverse: creşterea demografică, determinată de dărnicia pământului, resursele solului şi subsolului, configuraţia reliefului, care au asigurat protecţia românilor în vremuri de restrişte; dezvoltarea economică (agricultura, meşteşugurile, creşterea vitelor, comerţul, circulaţia monetară); evoluţia politico-socială, care a condus la procesul de feudalizare, realizându-se trecerea de la uniunile de obşti (romanii populare) la constituirea primelor formaţiuni politice numite cnezate şi voievodate, conduse de cneji, respectiv voievozi. Aceştia aveau atribuţii militare, politice, judecătoreşti şi administrative.[…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O particularitate o reprezintă contribuţia românilor din Transilvania la geneza statelor extracarpatice (Ţara Românească şi Moldova) reflectată în tradiţia descălecatului.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remisele externe au stimulat procesul de constituire a statelor medievale. Astfel, prezenţa cumanilor (aceştia au organizat în secolele XI-XIII un stat în câmpia nord-dunăreană) şi a tătarilor (Hanatul Hoardei de Aur în nordul Mării Negre) a creat un echilibru de forţe care a împiedicat Regatul Ungaria, Imperiul Bizantin şi statele ruse Kiev şi Halici să-şi extindă dominaţia asupra spaţiului românes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De asemenea, un fapt notabil l-a reprezentat criza internă din Regatul Ungariei, determinată de luptele pentru tron apărute în urma stingerii dinastiei arpadiene, în anul 1301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6" descr="denush.jpg"/>
          <p:cNvPicPr/>
          <p:nvPr/>
        </p:nvPicPr>
        <p:blipFill>
          <a:blip r:embed="rId1"/>
          <a:stretch/>
        </p:blipFill>
        <p:spPr>
          <a:xfrm>
            <a:off x="5435640" y="2276640"/>
            <a:ext cx="32385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iploma ioaniţilor este atestată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2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4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Formaţiunile politice din Dobrogea sunt unificate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l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sarab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săvârşirea unificării Moldovei aparţine voievodulu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rago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etru Muș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Ordonaţi cronolog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upta de la Pos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descălecatul” lui Negru Vod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obrotic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2818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clona</cp:lastModifiedBy>
  <dcterms:modified xsi:type="dcterms:W3CDTF">2011-03-28T05:20:52Z</dcterms:modified>
  <cp:revision>18</cp:revision>
  <dc:subject/>
  <dc:title>Slide 1</dc:title>
</cp:coreProperties>
</file>