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5F555-553A-4E7F-AAC3-8CEC5AC29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99071-B2E8-4B99-B3C2-597C3A485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8F765-BBA2-4C14-A45D-3CCA49B6B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6F47E-78CC-4EA4-97C5-A41858CE1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3C63E-A40D-448C-A3B9-66305F287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836B8-B47D-444A-8AFE-4AC0E7505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E9F80-C06B-44B5-9CDC-EC4527A46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7B332-6C13-47DC-AA73-5C435E4CC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33D70-CC3E-466A-ADEF-060FD35D7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34FA1-9133-47D7-82AF-08649A197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E65AF-5201-474C-AE6F-3F7BAC2A0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12B5F-2E73-4145-9AB2-E53A22076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F8DB-946A-4C25-BA0D-1E3AA1E56A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
          <p:cNvSpPr/>
          <p:nvPr/>
        </p:nvSpPr>
        <p:spPr>
          <a:xfrm>
            <a:off x="3809880" y="1523880"/>
            <a:ext cx="1047960" cy="914400"/>
          </a:xfrm>
          <a:custGeom>
            <a:avLst/>
            <a:gdLst>
              <a:gd name="textAreaLeft" fmla="*/ 246240 w 1047960"/>
              <a:gd name="textAreaRight" fmla="*/ 801000 w 104796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6"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7" name="Picture 7" descr=""/>
          <p:cNvPicPr/>
          <p:nvPr/>
        </p:nvPicPr>
        <p:blipFill>
          <a:blip r:embed="rId1"/>
          <a:stretch/>
        </p:blipFill>
        <p:spPr>
          <a:xfrm>
            <a:off x="5029200" y="167652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9"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ona</cp:lastModifiedBy>
  <dcterms:modified xsi:type="dcterms:W3CDTF">2011-03-31T08:04:42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