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951F-C04F-4245-8FEC-C2947046D20B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alaureat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E04-3AB3-46F0-AC41-B464B32E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039-8477-4678-BB2B-17A49FA8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5BA-63CD-4971-80A2-0CAF857B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7B3-6591-40A2-A22D-59A650C1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8BC-2D82-4EE9-89E8-9032053B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E84-1FA0-4C0A-9469-CA37C961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C95-06CA-45D2-BF3C-23F8BDA9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32F-F968-44CF-BDD1-DB0DBFA3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896-DC07-4314-8607-3C9D0E20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6B2-1F70-41D6-A553-1C19E41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6CF-E5FA-4BCC-9A55-EEADBC74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E07-32B8-4D9B-AC27-FDE589F3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208F-05E2-4AF0-9141-5E9010D12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449568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comp_i"/>
          <p:cNvPicPr/>
          <p:nvPr/>
        </p:nvPicPr>
        <p:blipFill>
          <a:blip r:embed="rId1"/>
          <a:stretch/>
        </p:blipFill>
        <p:spPr>
          <a:xfrm>
            <a:off x="4876920" y="167652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28 0.48218 C 0.11771 0.29745 -0.20486 0.11273 -0.3 0.03218 C -0.39514 -0.04838 -0.15833 -0.01019 -0.13056 -0.00116 C -0.10278 0.00787 -0.11128 0.05972 -0.13333 0.08588 C -0.15538 0.11204 -0.25278 0.11343 -0.2625 0.15625 C -0.27222 0.19907 -0.21441 0.25648 -0.19167 0.34329 C -0.16892 0.43009 -0.14948 0.62384 -0.12639 0.67662 C -0.1033 0.7294 -0.06545 0.66713 -0.05278 0.65995 C -0.0401 0.65278 -0.06788 0.61921 -0.05 0.63403 C -0.03212 0.64884 0.01094 0.69884 0.05417 0.74884 E">
                                      <p:cBhvr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ona</cp:lastModifiedBy>
  <dcterms:modified xsi:type="dcterms:W3CDTF">2011-03-21T07:21:1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