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489-2BCC-4D2E-A169-F573F64D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BA8-B397-4B0D-8D4C-9CE7DE58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756-71E9-444F-B62B-A624B4FF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493-B9BF-4194-9E3C-F329FDB4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140-0ACE-44EB-82BA-0C82D901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9B1-85D8-4458-854C-402474E6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215-CF2C-4B21-A52B-8219C99B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42E-AB91-44B6-9E52-52496AE6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974-8991-497F-910B-77D6C93D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66B4-E013-4137-9015-4A6C620C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BC1-3C34-466F-9BA9-9EC958B2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7B7-1C75-45AE-8F48-CE9E9789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A29E-044A-4295-8283-21CC48420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67080" y="4724280"/>
            <a:ext cx="762120" cy="685800"/>
          </a:xfrm>
          <a:custGeom>
            <a:avLst/>
            <a:gdLst>
              <a:gd name="textAreaLeft" fmla="*/ 178920 w 762120"/>
              <a:gd name="textAreaRight" fmla="*/ 582480 w 76212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ona</cp:lastModifiedBy>
  <dcterms:modified xsi:type="dcterms:W3CDTF">2011-03-31T07:59:1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