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C450B-7ED1-40A3-88DB-A3BE19B52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66D36-7362-4083-87E1-6276417C6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FE32A-4916-49D0-AD84-37A8C52CE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760DB-4353-4D93-B6FB-C795352A3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5DD5A-3EC1-4756-A0DA-D0A8D362D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F83B-19B3-4AAC-834F-9A9A76D0E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E3C0-92F1-4295-A96D-92CD8E5A7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D44AA-13AC-40D4-8F4B-7BBB337F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53BC-7EFE-4BB5-918B-332AD33D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C09C-73F4-494D-80F3-E09B37559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B48F-A066-4E7D-90F7-B4723891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EE7CE-9C9D-4C3F-B032-5E7658A18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7D19-DE25-4B44-A2AD-975829C0C918}"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
          <p:cNvSpPr/>
          <p:nvPr/>
        </p:nvSpPr>
        <p:spPr>
          <a:xfrm>
            <a:off x="5651640" y="765000"/>
            <a:ext cx="1728720" cy="1295640"/>
          </a:xfrm>
          <a:custGeom>
            <a:avLst/>
            <a:gdLst>
              <a:gd name="textAreaLeft" fmla="*/ 406080 w 1728720"/>
              <a:gd name="textAreaRight" fmla="*/ 1321200 w 1728720"/>
              <a:gd name="textAreaTop" fmla="*/ 152280 h 1295640"/>
              <a:gd name="textAreaBottom" fmla="*/ 812880 h 1295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6"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7" name="Picture 6" descr="comp_i"/>
          <p:cNvPicPr/>
          <p:nvPr/>
        </p:nvPicPr>
        <p:blipFill>
          <a:blip r:embed="rId1"/>
          <a:stretch/>
        </p:blipFill>
        <p:spPr>
          <a:xfrm>
            <a:off x="5072040" y="19288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Arial"/>
                <a:ea typeface="Arial"/>
              </a:rPr>
              <a:t>Examenul de bacalaureat 2010 </a:t>
            </a:r>
            <a:br>
              <a:rPr sz="1000"/>
            </a:br>
            <a:r>
              <a:rPr b="0" i="1" lang="ro-RO" sz="1000" spc="-1" strike="noStrike">
                <a:solidFill>
                  <a:srgbClr val="000000"/>
                </a:solidFill>
                <a:latin typeface="Arial"/>
                <a:ea typeface="Arial"/>
              </a:rPr>
              <a:t>Proba de evaluare a competenţelor digitale</a:t>
            </a:r>
            <a:r>
              <a:rPr b="0" i="1" lang="en-US" sz="1000" spc="-1" strike="noStrike">
                <a:solidFill>
                  <a:srgbClr val="000000"/>
                </a:solidFill>
                <a:latin typeface="Arial"/>
                <a:ea typeface="Arial"/>
              </a:rPr>
              <a:t> – document de </a:t>
            </a:r>
            <a:r>
              <a:rPr b="0" i="1"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3-31T04:59:10Z</dcterms:modified>
  <cp:revision>15</cp:revision>
  <dc:subject/>
  <dc:title>Slide 1</dc:title>
</cp:coreProperties>
</file>