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34B54-59C7-4F1D-8CB6-D8B6925FD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5104-4A61-4338-9A34-1D6A4F604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001CC-3013-4C2A-9D6E-62DAB6B4E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5609F-9D3F-4E51-96D6-B24E4CE09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7BFDD-37E1-4E3B-BDBE-713C7B0C8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D8A84-2EC4-489D-8B19-F7B906769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675BC-C9D5-4D4D-863E-A09B1762E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C12C1-61D9-409E-9A57-B45219B25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F6EEB-BFE8-4443-8168-1E67E409C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E0C6B-A3BF-4DC3-8714-11940D271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55846-2B1E-44F1-A306-1A93A28AE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D7193-9AA0-42B7-964D-E0683C6F9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1FC8-447A-4617-9FDC-7A0D7DE42A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CONSUMATORUL </a:t>
            </a:r>
            <a:r>
              <a:rPr b="1" lang="en-US" sz="1400" spc="-1" strike="noStrike">
                <a:solidFill>
                  <a:srgbClr val="000000"/>
                </a:solidFill>
                <a:latin typeface="Arial"/>
                <a:ea typeface="Arial"/>
              </a:rPr>
              <a:t>RAŢIONAL</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1295280" y="3352680"/>
            <a:ext cx="7315200" cy="45720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en-GB" sz="1000" spc="-1" strike="noStrike">
                <a:solidFill>
                  <a:srgbClr val="000000"/>
                </a:solidFill>
                <a:latin typeface="Arial"/>
              </a:rPr>
              <a:t>Manualul de </a:t>
            </a:r>
            <a:r>
              <a:rPr b="0" i="1" lang="ro-RO" sz="1000" spc="-1" strike="noStrike">
                <a:solidFill>
                  <a:srgbClr val="000000"/>
                </a:solidFill>
                <a:latin typeface="Arial"/>
              </a:rPr>
              <a:t>Economie, clasele a X-a şi a XI-a</a:t>
            </a:r>
            <a:r>
              <a:rPr b="0" lang="it-IT" sz="1000" spc="-1" strike="noStrike">
                <a:solidFill>
                  <a:srgbClr val="000000"/>
                </a:solidFill>
                <a:latin typeface="Arial"/>
              </a:rPr>
              <a:t>, coordonator Dorel Ailenei</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a:t>
            </a:r>
            <a:r>
              <a:rPr b="0" lang="ro-RO" sz="1000" spc="-1" strike="noStrike">
                <a:solidFill>
                  <a:srgbClr val="000000"/>
                </a:solidFill>
                <a:latin typeface="Arial"/>
              </a:rPr>
              <a:t>document de lucru</a:t>
            </a:r>
            <a:endParaRPr b="0" lang="en-US" sz="1000" spc="-1" strike="noStrike">
              <a:solidFill>
                <a:srgbClr val="000000"/>
              </a:solidFill>
              <a:latin typeface="Arial"/>
            </a:endParaRPr>
          </a:p>
        </p:txBody>
      </p:sp>
      <p:sp>
        <p:nvSpPr>
          <p:cNvPr id="44" name=""/>
          <p:cNvSpPr/>
          <p:nvPr/>
        </p:nvSpPr>
        <p:spPr>
          <a:xfrm>
            <a:off x="5943600" y="1981080"/>
            <a:ext cx="533520" cy="533520"/>
          </a:xfrm>
          <a:custGeom>
            <a:avLst/>
            <a:gdLst>
              <a:gd name="textAreaLeft" fmla="*/ 125280 w 533520"/>
              <a:gd name="textAreaRight" fmla="*/ 407880 w 533520"/>
              <a:gd name="textAreaTop" fmla="*/ 62640 h 533520"/>
              <a:gd name="textAreaBottom" fmla="*/ 334800 h 5335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371240"/>
            <a:ext cx="4572000" cy="487692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Toţi suntem consumatori. Unui adolescent, elev de liceu, îi place să se hrănească mai degrabă cu </a:t>
            </a:r>
            <a:r>
              <a:rPr b="0" i="1" lang="en-US" sz="1200" spc="-1" strike="noStrike">
                <a:solidFill>
                  <a:srgbClr val="000000"/>
                </a:solidFill>
                <a:latin typeface="Arial"/>
              </a:rPr>
              <a:t>“burgeri” sau pizza, </a:t>
            </a:r>
            <a:r>
              <a:rPr b="0" i="1" lang="ro-RO" sz="1200" spc="-1" strike="noStrike">
                <a:solidFill>
                  <a:srgbClr val="000000"/>
                </a:solidFill>
                <a:latin typeface="Arial"/>
              </a:rPr>
              <a:t>preferă o Cola, frecventează şcoala, este interesat de cărţi, reviste, CD-uri, computer şi internet, </a:t>
            </a:r>
            <a:r>
              <a:rPr b="0" i="1" lang="en-US" sz="1200" spc="-1" strike="noStrike">
                <a:solidFill>
                  <a:srgbClr val="000000"/>
                </a:solidFill>
                <a:latin typeface="Arial"/>
              </a:rPr>
              <a:t>“iese” </a:t>
            </a:r>
            <a:r>
              <a:rPr b="0" i="1" lang="ro-RO" sz="1200" spc="-1" strike="noStrike">
                <a:solidFill>
                  <a:srgbClr val="000000"/>
                </a:solidFill>
                <a:latin typeface="Arial"/>
              </a:rPr>
              <a:t>în excursii, discoteci, la cinema, ia calciu şi vitamine, face sport etc. </a:t>
            </a:r>
            <a:r>
              <a:rPr b="0" i="1" lang="en-US" sz="1200" spc="-1" strike="noStrike">
                <a:solidFill>
                  <a:srgbClr val="000000"/>
                </a:solidFill>
                <a:latin typeface="Arial"/>
              </a:rPr>
              <a:t>“Burgerii”, pizza, cola, şcoala, revistele… sunt bunuri şi servicii care satisfac nevoi diverse, specifice vârstei, preferinţelor, nivelului de cultură şi civilizaţie al unei persoane.</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sumatorul “REGE”. </a:t>
            </a:r>
            <a:r>
              <a:rPr b="0" i="1" lang="ro-RO" sz="1200" spc="-1" strike="noStrike">
                <a:solidFill>
                  <a:srgbClr val="000000"/>
                </a:solidFill>
                <a:latin typeface="Arial"/>
              </a:rPr>
              <a:t>În economia de piaţă, formula </a:t>
            </a:r>
            <a:r>
              <a:rPr b="0" i="1" lang="en-US" sz="1200" spc="-1" strike="noStrike">
                <a:solidFill>
                  <a:srgbClr val="000000"/>
                </a:solidFill>
                <a:latin typeface="Arial"/>
              </a:rPr>
              <a:t>“</a:t>
            </a:r>
            <a:r>
              <a:rPr b="0" i="1" lang="ro-RO" sz="1200" spc="-1" strike="noStrike">
                <a:solidFill>
                  <a:srgbClr val="000000"/>
                </a:solidFill>
                <a:latin typeface="Arial"/>
              </a:rPr>
              <a:t>consumatorul este rege</a:t>
            </a:r>
            <a:r>
              <a:rPr b="0" i="1" lang="en-US" sz="1200" spc="-1" strike="noStrike">
                <a:solidFill>
                  <a:srgbClr val="000000"/>
                </a:solidFill>
                <a:latin typeface="Arial"/>
              </a:rPr>
              <a:t>” nu reprezintă o afirmaţie lipsită de conţinut, ci este expresia sintetică a realităţii, conform căreia producţia se subordonează consumului. Astfel, există specialişti în marketing care vin în întâmpinarea dorinţelor consumatorului, analizând, chiar prognozând preferinţele acestuia, cu scopul de a concepe produsul potrivit la momentul potrivi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Prima condi</a:t>
            </a:r>
            <a:r>
              <a:rPr b="0" i="1" lang="ro-RO" sz="1200" spc="-1" strike="noStrike">
                <a:solidFill>
                  <a:srgbClr val="000000"/>
                </a:solidFill>
                <a:latin typeface="Arial"/>
              </a:rPr>
              <a:t>ţ</a:t>
            </a:r>
            <a:r>
              <a:rPr b="0" i="1" lang="en-US" sz="1200" spc="-1" strike="noStrike">
                <a:solidFill>
                  <a:srgbClr val="000000"/>
                </a:solidFill>
                <a:latin typeface="Arial"/>
              </a:rPr>
              <a:t>ie a reuşitei în afaceri este să apreciezi corect nevoile consumatorului. Orice eroare în acest sens îl costă scump pe producător.” (M.Didie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În secolul nostru s-a produs un adevărat salt în consum. Statisticile arată că noi consumăm de trei ori mai mult decât părinţii noştri. Faptul este vizibil dacă ne uităm în jurul nostru, la bunurile pe care le folosim (de exemplu, dotarea cu aparatură casnică).</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udiile specialiştilor pun în evidenţă existenţa unei ierarhii a nevoilor. Aceasta face ca în situaţiile caracterizate printr-un nivel de trai scăzut, să fie satisfăcute nevoile urgente, iar o dată cu creşterea nivelului de trai, să crească şi cheltuielile pentru bunuri şi servicii care nu sunt indispensabile (recreere, timp liber, concedii, călătorii etc.).</a:t>
            </a:r>
            <a:endParaRPr b="0" lang="en-US" sz="1200" spc="-1" strike="noStrike">
              <a:solidFill>
                <a:srgbClr val="000000"/>
              </a:solidFill>
              <a:latin typeface="Arial"/>
            </a:endParaRPr>
          </a:p>
        </p:txBody>
      </p:sp>
      <p:pic>
        <p:nvPicPr>
          <p:cNvPr id="47" name="Picture 17" descr="comp_i"/>
          <p:cNvPicPr/>
          <p:nvPr/>
        </p:nvPicPr>
        <p:blipFill>
          <a:blip r:embed="rId1"/>
          <a:stretch/>
        </p:blipFill>
        <p:spPr>
          <a:xfrm>
            <a:off x="5562720" y="1981080"/>
            <a:ext cx="2952720" cy="2952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371600"/>
            <a:ext cx="8229600" cy="495288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Arial"/>
              </a:rPr>
              <a:t>     </a:t>
            </a:r>
            <a:r>
              <a:rPr b="0" lang="ro-RO" sz="1200" spc="-1" strike="noStrike">
                <a:solidFill>
                  <a:srgbClr val="000000"/>
                </a:solidFill>
                <a:latin typeface="Arial"/>
              </a:rPr>
              <a:t>Clasificarea bunurilor:</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orma de existenţă:</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propriu-zise (cu formă materială, corporală);</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rvicii (sunt nemateriale: lecţiile predate, tratamentele medicale);</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formaţii (licenţe, brevete, programe pe calculator).</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modul de relaţionare</a:t>
            </a:r>
            <a:r>
              <a:rPr b="0" lang="en-GB" sz="1200" spc="-1" strike="noStrike">
                <a:solidFill>
                  <a:srgbClr val="000000"/>
                </a:solidFill>
                <a:latin typeface="Arial"/>
              </a:rPr>
              <a:t> </a:t>
            </a:r>
            <a:r>
              <a:rPr b="0" lang="ro-RO" sz="1200" spc="-1" strike="noStrike">
                <a:solidFill>
                  <a:srgbClr val="000000"/>
                </a:solidFill>
                <a:latin typeface="Arial"/>
              </a:rPr>
              <a:t>(a,b) şi modul în care circulă (c,d):</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complementare, care trebuie utilizate împreună (automobilul şi benzina);</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substituibile, între care trebuie ales pentru a satisface o nevoie (la jogging utilizăm pantofi tip adidas sau tenişi)</a:t>
            </a:r>
            <a:r>
              <a:rPr b="0" lang="en-US" sz="1200" spc="-1" strike="noStrike">
                <a:solidFill>
                  <a:srgbClr val="000000"/>
                </a:solidFill>
                <a:latin typeface="Arial"/>
              </a:rPr>
              <a:t>;</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marfare, care sunt oferite pe piaţă, de regulă, la un preţ care acoperă costul de producţie şi asigură un profit;</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nemarfare, care sunt oferite în afara pieţei de către instituţiile publice sau private (învăţământ, sănătate, cultură, televiziune).</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modul de acces şi provenienţă</a:t>
            </a:r>
            <a:r>
              <a:rPr b="0" lang="en-GB" sz="1200" spc="-1" strike="noStrike">
                <a:solidFill>
                  <a:srgbClr val="000000"/>
                </a:solidFill>
                <a:latin typeface="Arial"/>
              </a:rPr>
              <a:t> </a:t>
            </a:r>
            <a:r>
              <a:rPr b="0" lang="ro-RO" sz="1200" spc="-1" strike="noStrike">
                <a:solidFill>
                  <a:srgbClr val="000000"/>
                </a:solidFill>
                <a:latin typeface="Arial"/>
              </a:rPr>
              <a:t>(a,b) şi după scopul consumului (c,d):</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libere, preluate direct din natură şi la care accesul este liber (de exemplu, apa mărilor şi a oceanului, aerul etc.);</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economice, rezultate din activitatea umană, accesul fiind condiţionat de plata unei contravalori</a:t>
            </a:r>
            <a:r>
              <a:rPr b="0" lang="en-US" sz="1200" spc="-1" strike="noStrike">
                <a:solidFill>
                  <a:srgbClr val="000000"/>
                </a:solidFill>
                <a:latin typeface="Arial"/>
              </a:rPr>
              <a:t> […];</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finale;</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intermediar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clona</cp:lastModifiedBy>
  <dcterms:modified xsi:type="dcterms:W3CDTF">2011-03-31T08:05:58Z</dcterms:modified>
  <cp:revision>53</cp:revision>
  <dc:subject/>
  <dc:title>ALTE ROMANE  REALISTE INTERBEL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