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1474A-3E44-4451-AB8C-7619327ED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D8B9-2FD1-4942-BDE4-2C625954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1138D-A8B0-4034-91B1-2A5905D34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D2080-4C31-474F-8D89-19915A954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DA47-684D-4299-9F98-C3A849BC6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A4E2-CB7C-4E6C-9EB0-2AA7EF0B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F846-2E90-4EBB-B707-B140B5E5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6071-F392-4C41-9C53-1364987B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6CF6-1E99-4350-9196-691D1CA0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FCA8-76E1-40F0-913A-2905BF89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9483-5CAC-4C0F-8211-FC9272E7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B279-E683-4BF4-ADCE-5338B7819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530A-D67C-4699-8C9A-3E907D7C8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762120" y="1752480"/>
            <a:ext cx="1981080" cy="1905120"/>
          </a:xfrm>
          <a:custGeom>
            <a:avLst/>
            <a:gdLst>
              <a:gd name="textAreaLeft" fmla="*/ 465480 w 1981080"/>
              <a:gd name="textAreaRight" fmla="*/ 1514160 w 1981080"/>
              <a:gd name="textAreaTop" fmla="*/ 223920 h 1905120"/>
              <a:gd name="textAreaBottom" fmla="*/ 1195200 h 1905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Arial"/>
              </a:rPr>
              <a:t>Examenul de bacalaureat 2010</a:t>
            </a:r>
            <a:br>
              <a:rPr sz="1000"/>
            </a:br>
            <a:r>
              <a:rPr b="0" i="1" lang="ro-RO" sz="1000" spc="-1" strike="noStrike">
                <a:solidFill>
                  <a:srgbClr val="000000"/>
                </a:solidFill>
                <a:latin typeface="Arial"/>
              </a:rPr>
              <a:t>Proba de evaluare a competenţelor digitale</a:t>
            </a:r>
            <a:r>
              <a:rPr b="0" i="1"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6"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7" name="Picture 7" descr=""/>
          <p:cNvPicPr/>
          <p:nvPr/>
        </p:nvPicPr>
        <p:blipFill>
          <a:blip r:embed="rId1"/>
          <a:stretch/>
        </p:blipFill>
        <p:spPr>
          <a:xfrm>
            <a:off x="5029200" y="167652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9"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8T06:23:52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