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D89-E45E-48FE-ADD4-9341AF96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55A-6C3C-4E03-BB6C-BE5C7BD8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172-BDC0-4D7B-892F-B64CC4D2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CE9-71B2-4324-8C9D-093F4F09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2C0-B091-4DAA-977D-86F1635B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56B-22EB-4DEC-81AB-757E05ED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9B0-E7E6-4275-9708-941DC9E6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177-7AE9-42DF-B861-4AD42707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0B3-18CA-4A83-8744-2248B09A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A98-70CA-407A-83DD-AEAC43FA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340-DD25-45E1-B691-1974ECCE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DD5-997A-4157-BEDA-ADC95386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DE6C-4211-498C-B07E-8B62FBC7E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743200"/>
            <a:ext cx="1143000" cy="1143000"/>
          </a:xfrm>
          <a:custGeom>
            <a:avLst/>
            <a:gdLst>
              <a:gd name="textAreaLeft" fmla="*/ 268560 w 1143000"/>
              <a:gd name="textAreaRight" fmla="*/ 873720 w 1143000"/>
              <a:gd name="textAreaTop" fmla="*/ 134280 h 1143000"/>
              <a:gd name="textAreaBottom" fmla="*/ 717120 h 1143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3333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1-04-01T05:56:31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