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675-92DE-46F6-B5D2-90697005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383-6D45-4862-967A-F8113FA3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6433-3915-4070-B10C-E4C23130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3AC7-8F7A-4BB3-A940-6EBCA1BA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B0C2-E8C4-43CB-94B2-95260C1B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4990-9405-4569-8FE4-1C195591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9922-BD07-42B9-A871-6BFB857A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6B0D-C335-4FA6-BB1D-10A9EF6E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73B3-A55F-4CFC-A495-D1CA8F6A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AD2F-1B55-4D8C-84CE-98E9E79F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767F-06E3-419F-9849-81B4A9F3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0FFA-B762-4048-8E72-0DCE6A02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A98F-43DE-47F1-BFD7-B2E0242F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85C2-0FB7-487C-A06E-ED1EAD98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E887-5A35-45D3-90A6-B98B4402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D637-5B19-4A20-B4CC-516F2EBB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3ED0-5677-40A2-A269-73AA802A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EAA-1A0D-4092-854C-32F0F940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AEC-757B-46A2-BF75-94E4F04F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7EF-CAD6-4088-9B19-579C1CBE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410-912D-4950-A02B-D82E32B5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1605-AF59-4AC6-B81F-B022B14A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FDE-EF32-49ED-86A6-9380F59A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747-8373-4ABB-9A0D-88EAD3DD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242A-FB66-46BA-9894-3CFF7E4531D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9E74-78D5-46A4-AC54-4626EA42D53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 petit coch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ndu au plafo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queue de cochon, la queue du cochon, queu de cochon"/>
          <p:cNvPicPr/>
          <p:nvPr/>
        </p:nvPicPr>
        <p:blipFill>
          <a:blip r:embed="rId1"/>
          <a:stretch/>
        </p:blipFill>
        <p:spPr>
          <a:xfrm>
            <a:off x="0" y="0"/>
            <a:ext cx="849636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irez lui la queu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l donnera du lai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 rot="1935600">
            <a:off x="6876720" y="692280"/>
            <a:ext cx="201600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497800" cy="67975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irez lui la queu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             Il pondra des oeu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5796000" cy="434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 petit coch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ndu au plafo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queue de cochon, la queue du cochon, queu de cochon"/>
          <p:cNvPicPr/>
          <p:nvPr/>
        </p:nvPicPr>
        <p:blipFill>
          <a:blip r:embed="rId1"/>
          <a:stretch/>
        </p:blipFill>
        <p:spPr>
          <a:xfrm>
            <a:off x="826920" y="333360"/>
            <a:ext cx="5292720" cy="42721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irez lui la queu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l donnera du lai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 rot="1935600">
            <a:off x="4858920" y="549360"/>
            <a:ext cx="201636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4502160" cy="36018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irez lui la queu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             Il pondra des oeu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44:27Z</dcterms:created>
  <dc:creator>clone</dc:creator>
  <dc:description/>
  <dc:language>en-US</dc:language>
  <cp:lastModifiedBy>Administrateur</cp:lastModifiedBy>
  <dcterms:modified xsi:type="dcterms:W3CDTF">2010-09-29T09:36:31Z</dcterms:modified>
  <cp:revision>4</cp:revision>
  <dc:subject/>
  <dc:title>Un petit cochon Pendu au plafond</dc:title>
</cp:coreProperties>
</file>